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752F-D795-4EEE-86FC-AF83111E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CACE-8165-4CE7-976B-8EBA5FCC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95B7-27FE-4FFA-8F2A-4F80FD46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E1CB-4C73-4EC0-BD0C-9978048C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17C9-974A-4AAA-ADB3-99C1D74C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C9A1-9892-491E-9410-AA0F9C3A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25A5-654B-4311-9C78-3E6BA1A8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EEC7-9855-4B6E-B8BF-29AE1E93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DEF9-ABBD-4933-9C43-E670D57D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4D2F-6FFB-40A8-92ED-80DF6E7B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9EEF-556C-4BB9-BCBF-2828FEA6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E92F-2D88-45E7-9D84-F62922E0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2DDC-0D55-42D3-8413-58A475A147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2060640"/>
            <a:ext cx="44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表扬与奖励：寝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11280" y="105264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学习的情感、意志和态度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积极的情感同学习联系起来，防止消极情绪的滋生，可以促进学习。善于控制自己，是学习意志力培养的关键。控制和约束自己的行动，控制不需要的想法和情绪，可以使思想集中到学习上来，这点是尤为重要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4360" y="620640"/>
            <a:ext cx="504000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掌握科学的学习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155736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预习（看情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2565360"/>
            <a:ext cx="79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听课 （课前：精力旺盛，头脑清醒；课上：四勤；课后：可快速回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86064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作业的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486900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复习的方法：整理笔记；查漏补缺；错题本；循环复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908000" y="1268280"/>
            <a:ext cx="53280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学法指导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6804000" y="60213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76720" y="4437000"/>
            <a:ext cx="1403280" cy="2116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987640" y="4653000"/>
            <a:ext cx="1801800" cy="1441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95280" y="4437000"/>
            <a:ext cx="160164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981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进人高中后，学习就登上了一个新台阶。新的教材、新的教学要求，在我们面前摆下一道道难关。有的同学在初中时学得蛮不错，学习成绩很好，可是到高中后，却很不适应，听不懂，学不会，成绩甚至出现不及格，高挂红灯。为什么呢？就是因为没有根据高中学习的特点而学习。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76720" y="4581360"/>
            <a:ext cx="186372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126828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知识量增大 学科门类，高中与初中差不多，但高中的知识量比初中的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理论性增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是最主要的特点。高中则要求深人理解，作定量研究，教材的抽象性和概括性大大加强。如初中代数侧重于解方程、运算，而高中代数一开始就是相当抽象的集合、映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404640"/>
            <a:ext cx="338292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高中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260280"/>
            <a:ext cx="8136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系统性增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高中教材由于理论性增强，常以某些基础理论为纲，根据一定的逻辑，把基本概念、基本原理、基本方法联结起来。构成一个完整的知识体系。前后知识的关联是其一个表现。另外，知识结构的形成是另一个表现，因此高中教材知识结构化明显升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综合性增强 学科间知识相互渗透，相互为用，加深了学习难度。如分析计算物理题，要具备数学的函数，解方程等知识技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04000" y="5348160"/>
            <a:ext cx="182088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1280" y="213372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能力要求提高 在阅读能力、写作能力、运算能力、实验能力需要进一步的提高与培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260280"/>
            <a:ext cx="842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对高中生智力发展的要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智力一般认为包括观察力、记忆力、思维能力和想象力，这就要求高中学生智力方面有相应发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在观察事物时，要更富目的性，会更加全面和深刻，能区别出主要的和次要的，必然和偶然的现象；不仅要有静态的观察，还要有动态的观察；不仅有定性的研究，还要有定量的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要求记忆以逻辑识记为本，力求在理解基础上抓住教材内在联系，进行记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运用概念、判断、推理来进行逻辑思维。同时要独立思考问题，研究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想象力要较大发展。把抽象问题具体化，形象化，如从平面几何到高中立体几何的学习，就需要发展空间想象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549360"/>
            <a:ext cx="424800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高中学习的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263700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爱因斯坦有个成功的公式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表成功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表艰苦劳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表正确方法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表少说废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90792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学习的动机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们要努力强化学习的动机，如树立远大理想；参加各种竞赛，挑战强者，激起学习欲望；看到自己学习成果而受鼓励，从而增强自信，经受挫折，要有不甘失败和屈辱的精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学习的兴趣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浓厚的学习兴趣与效率有密切关系，可以从好奇心和求知欲中激发学习兴趣。如物理的实验，化学的变化等，容易引起人的好奇和求知；培养对各门功课的兴趣。往往是刻苦学习后，才发现知识的奥秘和用途，才提高学习成绩，所以一定要钻进“书海”去；把知识应用于实践，激发兴趣，用自己所学的知识分析解决出问题时，那种成功感易激发学习兴趣。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89000"/>
            <a:ext cx="460836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提高学习心理的素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27:47Z</dcterms:modified>
  <cp:revision>22</cp:revision>
  <dc:subject>主题班会课件(分28大类): http://shop62905894.taobao.com</dc:subject>
  <dc:title>主题班会课件(分28大类): http://shop62905894.taobao.com</dc:title>
</cp:coreProperties>
</file>