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8F6-0B98-4FEC-BF57-5CB61C99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F33-6821-4FAE-9B99-AE39D7C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DA8-25E8-44B4-9888-CF37D32A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03C-740A-4F28-9DC0-BAFC7109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2A3-41E2-4AA9-9311-6D4CC43A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760-D09A-4D1F-BA63-CFC06B38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821-5469-4DC1-BD3E-51F750B6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8B4-65EA-42DD-9ACB-E73AAB7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4E8-BCCB-47E3-B65A-4FD22E62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9B1-FA7F-4FCC-AF44-A2CDF16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C48-E7C4-487B-82E2-D54F739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669-AA8A-43A3-A846-8FA20E0B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6D11-50BA-4101-A7E6-18EC43055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7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3237840" y="28573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方法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5720" y="425520"/>
            <a:ext cx="5397480" cy="66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不能形成知识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识结构是知识体系在学生头脑中的内化反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也就是指知识经过学生输入、加工、储存过程而在头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形成的有序的组织状态。构建一定的知识结构在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是很重要的。如果没有合理的知识结构，再多的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也只能成为一盘散沙，无法发挥出它们应有的功效。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学生单元测验成绩很好，可一到综合考试就不行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原因也往往在于他们没有掌握知识间的联系，没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相应的知识结构。这种学生对所学内容与学科之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对各章节之间不及时总结归纳整理，致使知识基本上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于“游离状态”。这种零散的知识很容易遗忘，也很容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张冠李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6520" y="6067440"/>
            <a:ext cx="1139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67600" y="425520"/>
            <a:ext cx="573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不会听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课前不预习，对上课内容完全陌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无法带着疑问去学，听课时开小差不记笔记，或充当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音机的角色，把老师所讲的一字不漏地记录下来；只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记录与教师的讲述保持同步，而不让自己的思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与教师保持同步；课后不及时复习，听完课就万事大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2920" y="425520"/>
            <a:ext cx="565020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不会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不善于选择阅读书目，完全凭个人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趣或完全听从老师父母的安排；没有阅读重点，处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好“博”与“精”的关系，要么广种薄收，要么精读于一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漏万；阅读速度慢，不会快速阅读，也不会略读，任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情况下都逐字逐句；不善于带着问题去读，阅读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没有什么收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67600" y="425520"/>
            <a:ext cx="573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七）抓不住重点和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学生，在看书和听课时，不善于寻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重点和难点，找不到学习上的突破口，眉毛胡子一把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全面出击，结果分散和浪费了时间与精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67600" y="447840"/>
            <a:ext cx="573084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八）理论与实际脱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论知识与实际操作相结合是非常重要而有效的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，所谓“学而必习，习又必行”。而方法不当的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往往只满足于学习书本上的知识，不善于在实践中学习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实践中运用，不能用所学知识解决实际问题。具体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现为动手能力差，不喜欢上实验课和操作课，不关心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实生活，“两耳不闻窗外事，一心只读圣贤书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80120" y="425520"/>
            <a:ext cx="563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九）不善于科学用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学习时不注意劳逸结合，不善于转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脑兴奋中心，使大脑终日昏昏沉沉，影响学习效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-33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0040" y="3286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_x000b__x000c_"/>
              </a:rPr>
              <a:t>学习方法不当的成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35920" y="1165320"/>
            <a:ext cx="573084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2" action="ppaction://hlinksldjump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以上原因分析是从学生个体出发的，是造成学习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当的内因。除此之外，还有来自教师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学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方面的外因都对学习方法的形成产生影响，也都是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学习方法不当的可能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52280" y="10969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52280" y="26971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14480" y="3154320"/>
            <a:ext cx="571320" cy="503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7240" y="425520"/>
            <a:ext cx="5730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少学生在方法上听其自然，看不到科学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作用和意义，没有尝到正确方法所带来的甜头，以为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刀误了砍柴工，因而不愿意花时间和精力去认真研究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先进的学习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7720" y="425520"/>
            <a:ext cx="56109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面讲到学习方法具有适应性，其中一个方面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适应各阶段、各学科的学习特点。这就需要学生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的学习有明确的认识，在此基础上，才能形成科学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。有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说：“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，我的成绩挺好。可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，就感到学习很吃力，成绩上不去，心中很着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该怎么办呢？”这其中一个很大的原因在于学习方法没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及时调整。从初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高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学习特点发生了较大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发愁：“我其他成绩都不错，可为什么就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好外语呢？”原因也可能在于他没有认识到外语学习的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点。作为学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了解各阶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学科的学习特点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及时调整自己的学习方法，以适应不同的学习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38680" y="425520"/>
            <a:ext cx="530136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除了要适应学习特点外，还要适应个体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如果学生对自身的状况和条件认识不足的话，则很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造成方法不当，因为正确的方法首先是适合自己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对自身认识不足主要包括两个方面：一是对自己目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状况没有客观、清醒的认识。二是对自己的个性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征认识不清。学生如果对自己的个性特征认识不清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上就很有可能盲目模仿别人，强己所难，身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疲。所以，可以说，认识自己是掌握科学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764240"/>
            <a:ext cx="2666880" cy="2093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59360" y="155520"/>
            <a:ext cx="59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按实际情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“是”，“不一定”，或“否”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题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5080" y="1219320"/>
            <a:ext cx="53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学习除了书本还是书本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对书本的观点、内容从来不加怀疑和批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小说等一些有趣的书外，你对其他理论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根本不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你读书从来不做任何笔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学会运用公式定理，你还知道它们是如何推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认为课堂上的基础知识没啥好学，只有看高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部头著作才过瘾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经常使用各种工具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上课或自学你都能聚精会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见缝插针，利用点滴时间学习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常找同学争论学习上的问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27720" y="425520"/>
            <a:ext cx="561096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动机缺乏的学生没有学习动力，缺乏学习热情，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看成是一件苦差事，在学习中没有目标，得过且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学习行为完全是一种被动的应付。表现在方法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必然会死记硬背、投机取巧、没有计划。一个丧失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动机的学生，必然丧失深究学习方法的兴趣。因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那些在学习中无精打采、大叫“没劲”的学生，十有八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不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77240" y="425520"/>
            <a:ext cx="573084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和运用科学的学习方法时，需要一定的自制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特别是纠正一些不良的、已经形成习惯的学习方法，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需要毅力和恒心。有的学生有掌握科学方法的愿望，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运用过程中因意志薄弱而半途而废，造成有目标无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果，有计划无行动。在学习上跟着感觉走，自然要省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得多，但学习效果也会糟糕得多。因此，学生在运用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学习方法的过程中，需要教师、家长或同学多鼓励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督促、多提醒，依靠外界力量的支持来克服意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薄弱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46160" y="425520"/>
            <a:ext cx="5730840" cy="57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绝大多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没有接受过专门的、系统的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指导与训练，对什么是科学的学习方法缺乏明确的认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学习中也不能自觉地加以运用。即使有的学生掌握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些有效的学习方法，也大都是走了很多弯路之后形成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并且是零散的。科学的、系统的学习方法很难在学习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然而然地形成，应该接受专门的指导与训练。因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生自己应该多阅读一些这方面的书籍，积极主动地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学习方法体系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13480" y="189720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Monotype Corsiva"/>
                <a:ea typeface="华文新魏"/>
              </a:rPr>
              <a:t>你在学习中有没有不当之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16000" y="19810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什么是正确的学习方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52388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2760" y="857160"/>
            <a:ext cx="4813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定意义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一种带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性特征的学习风格。学习方法因人而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但正确的学习方法应该遵循以下几个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、熟读精思、自求自得、博约结合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77120" y="4754520"/>
            <a:ext cx="2666880" cy="209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1160" y="434808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WHAT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</a:rPr>
              <a:t>…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084400" y="476280"/>
            <a:ext cx="5057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”──就是人们按照学科的知识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系和自身的智能条件，系统而有步骤地进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。它要求人们应注重基础，切忌好高骛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急于求成。循序渐进的原则体现为：一要打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基础。二要由易到难。三要量力而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77120" y="522360"/>
            <a:ext cx="53578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熟读精思”──就是要根据记忆和理解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记忆与理解紧密结合起来，两者不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偏废。我们知道记忆与理解是密切联系、相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相成的。一方面，只有在记忆的基础上进行理解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解才能透彻；另一方面，只有在理解的参与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进行记忆，记忆才会牢固，“熟读”，要做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三到”：心到、眼到、口到。“精思”，要善于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出问题和解决问题，用“自我诘难法”和“众说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难法”去质疑问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1260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求自得”──就是要充分发挥学习的主动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积极性，尽可能挖掘自我内在的学习潜力，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养和提高自学能力。自求自得的原则要求不要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读书而读书，应当把所学的知识加以消化吸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变成自己的东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0144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约结合”──就是要根据广搏和精研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广博和精研结合起来，众所周知，博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约的关系是在博的基础上去约，在约的指导下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，博约结合，相互促进。坚持博约结合，一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广泛阅读。二是精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824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分规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2400" y="1523880"/>
            <a:ext cx="571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题回答“否”表示正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他问题回答“是”表示正确。正确的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错误的不给分。回答“不一定”的题目都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最后计算总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39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93440" y="644400"/>
            <a:ext cx="5517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”──就是要根据认识与实践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学习和实践结合起来，切忌学而不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者行之始，行者知之成”，以知为指导的行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能行之有效，脱离知的行则是盲动。同样，以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验证的知才是真知灼见，脱离行的知则是空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因此，知行统一要注重实践：一是要善于在实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学习，边实践、边学习、边积累。二是躬行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践，即把学习得来的知识，用在实际工作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解决实际问题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-33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54560" y="1033560"/>
            <a:ext cx="6020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96480" y="401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数说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11080" y="1428840"/>
            <a:ext cx="325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以上，学习方法很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学习方法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学习方法一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以下，学习方法较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39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65760" y="4137120"/>
            <a:ext cx="3378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5080" y="343080"/>
            <a:ext cx="5351400" cy="69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学习除了书本还是书本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对书本的观点、内容从来不加怀疑和批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小说等一些有趣的书外，你对其他理论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根本不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你读书从来不做任何笔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学会运用公式定理，你还知道它们是如何推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认为课堂上的基础知识没啥好学，只有看高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部头著作才过瘾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经常使用各种工具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上课或自学你都能聚精会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见缝插针，利用点滴时间学习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常找同学争论学习上的问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5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-360" y="4572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9907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5960" y="9144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1523880"/>
            <a:ext cx="60948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5960" y="14479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251460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5960" y="243828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625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5960" y="38862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8640" y="326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4020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40200" y="521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7760" y="566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44760" y="6202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-33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9360" y="914400"/>
            <a:ext cx="3106800" cy="68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2" action="ppaction://hlinksldjump"/>
              </a:rPr>
              <a:t>－）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（二）不会科学利用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三）不求甚解，死记硬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5" action="ppaction://hlinksldjump"/>
              </a:rPr>
              <a:t>（四）不能形成知识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6" action="ppaction://hlinksldjump"/>
              </a:rPr>
              <a:t>（五）不会听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7" action="ppaction://hlinksldjump"/>
              </a:rPr>
              <a:t>（六）不会阅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8" action="ppaction://hlinksldjump"/>
              </a:rPr>
              <a:t>（七）抓不住重点和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9" action="ppaction://hlinksldjump"/>
              </a:rPr>
              <a:t>（八）理论与实际脱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10" action="ppaction://hlinksldjump"/>
              </a:rPr>
              <a:t>（九）不善于科学用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1600200" y="914400"/>
            <a:ext cx="571680" cy="50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05920" y="6324480"/>
            <a:ext cx="761760" cy="533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03040" y="762120"/>
            <a:ext cx="49950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凡事预则立，不预则废。”学习计划是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目标的保证。但有些学生对自己的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毫无计划，整天忙于被动应付作业和考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缺乏主动的安排。因此，看什么、做什么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什么都心中无数。他们总是考虑“老师要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做什么”而不是“我要做什么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97560"/>
            <a:ext cx="15206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5840" y="590400"/>
            <a:ext cx="55148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不会科学利用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对每个人都是公平的。有的学生能在有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内，把自己的学习、生活安排得从从容容。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学生虽然忙忙碌碌，经常加班加点，但忙不到点子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实际效果不佳。有的学生不善于挤时间，他们经常抱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每天上课、回家、吃饭、做作业、睡觉，哪还有多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时间供自己安排？”还有的学生平时松松垮垮，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考试手忙脚乱。这些现象都是不会科学利用时间的反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40320" y="425520"/>
            <a:ext cx="561096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不求甚解，死记硬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死记硬背指不加思索地重复，多次重复直到大脑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留下印象为止。它不需要理解，不讲究记忆方法和技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最低形式的学习。它常常使记忆内容相互混淆，而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能长久记忆，当学习内容没有条理，或学生不愿意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去分析学习内容的条理和意义时，学生往往会采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死记硬背的方法。依赖这种方法的学生会说：“谢天谢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考试总算结束了。现在我可以把那些东西忘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干二净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1:50Z</dcterms:modified>
  <cp:revision>31</cp:revision>
  <dc:subject>主题班会课件(分28大类): http://shop62905894.taobao.com</dc:subject>
  <dc:title>主题班会课件(分28大类): http://shop62905894.taobao.com</dc:title>
</cp:coreProperties>
</file>