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7A1F-3807-42E9-8E37-196EE6D6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0DD5-D800-497A-83E2-FDDB3663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1BAC-03AD-4EB3-8A4F-CECAD651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E62-76A8-4964-A945-2755DA85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0EF-DC74-406C-822D-D014FE14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E3A8-57AE-43B3-A093-7E99FF3D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817-F993-40FC-BCFA-4A8E7C00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3225-FDC1-48D2-9F2A-FD2733E4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C69-8ECA-4F39-B79B-773DF89C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6686-0D6E-49FB-9C4F-820D0E96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782-1452-4DE1-ADEB-B6B99377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913-9A8E-421D-A321-96AADBD7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E650-2B22-432B-AFD4-E961E13F70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692280"/>
            <a:ext cx="853452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学习方法与经验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流主题班会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413000"/>
            <a:ext cx="410364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方法与经验交流人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2205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语文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: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贺清容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(3.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637000"/>
            <a:ext cx="42480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2637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数学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: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顾万伦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(3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30686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英语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: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刘    婷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(3.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9280" y="342900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物理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: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张绍兰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(3.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4581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996633"/>
                </a:solidFill>
                <a:latin typeface="Arial"/>
              </a:rPr>
              <a:t>课 件 制 作 人</a:t>
            </a:r>
            <a:r>
              <a:rPr b="0" lang="zh-CN" sz="2400" spc="-1" strike="noStrike">
                <a:solidFill>
                  <a:srgbClr val="99663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4941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3640" y="53737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996633"/>
                </a:solidFill>
                <a:latin typeface="Arial"/>
              </a:rPr>
              <a:t>执      教     人</a:t>
            </a:r>
            <a:r>
              <a:rPr b="0" lang="zh-CN" sz="2400" spc="-1" strike="noStrike">
                <a:solidFill>
                  <a:srgbClr val="99663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3860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化学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: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卢小梅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(3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45233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245233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要课前预习。现行初中语文教材各册既有单元提示，每课又有预习提示及课后练习。预习提示或者提供背景材料，或者针对课文重点或难点提出一些启发性问题，引发我们思考；同时提出一些字词，要求我们利用工具书去理解和掌握；文后练习的意图是帮助我们从整体上把握课文，学习语文精彩之处。总之通过预习先了解、感知整个单元或全篇文章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" dur="5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要专心听讲。俗话说，“万变不离其宗”。每次考试语文卷题型变化不快，并且每个知识点在课本上都能找到相应的篇目。所以，上课既要专心致志地听，做到眼、耳、嘴、手、脑等器官综合运用，又要做好课堂笔记，文中重点段落、优美的语句要勾画出来，老师帮助概括归纳的东西也要记在本子上，进一步领会作者写作意图，把握人物形象，了解故事情节，总结写作特点，领会文章寓义等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3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要广泛阅读。语文学习需要通过大量的阅读来拓宽知识面。扩大阅读范围，就是既要读一些文学名著，又要读一些报刊杂志上的优美文章，在阅读中思考，在阅读中探究。此外，要培养良好的阅读方法，掌握科学的阅读技能，如圈点批注，摘录卡片，朗读、默读、精读或泛读等。俗话说开卷有益，只有通过广泛的阅读，才能逐步提高语文水平，提高文学作品的鉴赏能力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3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要全面积累。语文学习关键在平时的积累。专心听讲、记好笔记是积累；课外广泛阅读、摘录对自己有价值的内容是积累；茶余饭后翻翻报刊、查阅字典是积累；闲聊时，听君一席话、胜读十年书的耳闻是积累；网上漫游、春联婚联、街头标语口号、电视广告等目睹的也是积累。可见，事事留心皆学问，的确如此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3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要坚持写作。现代中学生虽然学习负担重、作业多，但仍要坚持练笔。若平时写得少，或长期不写，到考试时就有挤牙膏似的苦涩感。所以，要坚持写作，日记、散文、随感都可以写，写后再修改。另外，写文章要养成事先列提纲的习惯，列提纲的过程就是选材和归纳构思的过程。提纲，也就是文章的“蓝图”，即开头如何切入，中间哪些详写、哪些略写，怎样结尾等，要心中有数，然后根据提纲才可一气呵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4920" y="-243360"/>
            <a:ext cx="6481800" cy="61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676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740720" y="0"/>
            <a:ext cx="1584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顾万伦</a:t>
            </a: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(</a:t>
            </a: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三年级二班</a:t>
            </a: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)</a:t>
            </a: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本次考试</a:t>
            </a: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数学</a:t>
            </a: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卷</a:t>
            </a: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95</a:t>
            </a: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分</a:t>
            </a: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,B</a:t>
            </a: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卷</a:t>
            </a: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22</a:t>
            </a: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6237360"/>
            <a:ext cx="115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6165720"/>
            <a:ext cx="158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8864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学会学习，掌握学习规律和学习方法，以培养索取知识的能力，乃是当今青少年学习中十分重要的任务，只有凭借着良好的学习方法，才能达到“事半功倍”的学习效果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　　针对数学学习，有以下几点建议，供大家参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2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2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2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2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、阅读理解。学习数学存在一个严重的问题就是不善于读数学教材， 往往是死记硬背。重视阅读方法对提高学习能力是至关重要的。新学一个章节内容，先粗粗读一遍，即浏览本章节所学内容的枝干，然后一边读一边勾，粗略懂得教材的内容及其重点、难点所在，对不理解的地方打上记号。然后细细地读，即根据每章节后的学习要求，仔细阅读教材内容，理解数学概念、公式、法则、思想方法的实质及其因果关系，把握重点、突破难点。再次带着研究者的态度去读，即带着发展的观点研讨知识的来龙去脉、结构关系、编排意图，并归纳要点，把书读懂，并形成知识网络，完善认识结构，当掌握了这三种读法，形成习惯之后，就能从本质上改变其学习方式，提高学习效率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二、提高听课质量。要培养会听课，听懂课的习惯。注意听教师每节课强调的学习重点，注意听对定理、公式、法则的引入与推导的方法和过程，注意听对例题关键部分的提示和处理方法，注意听对疑难问题的解释及一节课最后的小结，这样，抓住重、难点，沿着知识的发生发展的过程来听课，不仅能提高听课效率，而且能由“听会”转变为“会听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1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22960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三、有疑必问是提高学习效率的有效办法，学习过程中，遇到疑问，抓紧时间问老师和同学，把没有弄懂，没有学明白的知识，最短的时间内掌握。建立自己的错题本，经常翻阅，提醒自己同样的错误不要犯第二次。从而提高学习效率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3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5437080" y="4014720"/>
            <a:ext cx="1786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12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-387720"/>
            <a:ext cx="822960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进入初三，同时面临着中招考试。同学们学习任务之繁重可想而知。为了学得轻松，在中招考试中取得较好的成绩，必须学会听课，向课堂４５分钟要质量。更应该学习别人的先进经验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以利今后取得进步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3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-360"/>
            <a:ext cx="6635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8850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956720" y="0"/>
            <a:ext cx="1008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99"/>
                </a:solidFill>
                <a:latin typeface="Arial"/>
              </a:rPr>
              <a:t>刘婷</a:t>
            </a:r>
            <a:r>
              <a:rPr b="1" lang="zh-CN" sz="3200" spc="-1" strike="noStrike">
                <a:solidFill>
                  <a:srgbClr val="66ff99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66ff99"/>
                </a:solidFill>
                <a:latin typeface="Arial"/>
              </a:rPr>
              <a:t>三年级四班</a:t>
            </a:r>
            <a:r>
              <a:rPr b="1" lang="zh-CN" sz="3200" spc="-1" strike="noStrike">
                <a:solidFill>
                  <a:srgbClr val="66ff99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66ff99"/>
                </a:solidFill>
                <a:latin typeface="Arial"/>
              </a:rPr>
              <a:t>本次考试中</a:t>
            </a:r>
            <a:r>
              <a:rPr b="1" lang="zh-CN" sz="3200" spc="-1" strike="noStrike">
                <a:solidFill>
                  <a:srgbClr val="66ff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ff99"/>
                </a:solidFill>
                <a:latin typeface="Arial"/>
              </a:rPr>
              <a:t>英语</a:t>
            </a:r>
            <a:r>
              <a:rPr b="1" lang="zh-CN" sz="3200" spc="-1" strike="noStrike">
                <a:solidFill>
                  <a:srgbClr val="66ff99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66ff99"/>
                </a:solidFill>
                <a:latin typeface="Arial"/>
              </a:rPr>
              <a:t>卷</a:t>
            </a:r>
            <a:r>
              <a:rPr b="1" lang="zh-CN" sz="3200" spc="-1" strike="noStrike">
                <a:solidFill>
                  <a:srgbClr val="66ff99"/>
                </a:solidFill>
                <a:latin typeface="Arial"/>
              </a:rPr>
              <a:t>91</a:t>
            </a:r>
            <a:r>
              <a:rPr b="1" lang="zh-CN" sz="3200" spc="-1" strike="noStrike">
                <a:solidFill>
                  <a:srgbClr val="66ff99"/>
                </a:solidFill>
                <a:latin typeface="Arial"/>
              </a:rPr>
              <a:t>分</a:t>
            </a:r>
            <a:r>
              <a:rPr b="1" lang="zh-CN" sz="3200" spc="-1" strike="noStrike">
                <a:solidFill>
                  <a:srgbClr val="66ff99"/>
                </a:solidFill>
                <a:latin typeface="Arial"/>
              </a:rPr>
              <a:t>,B</a:t>
            </a:r>
            <a:r>
              <a:rPr b="1" lang="zh-CN" sz="3200" spc="-1" strike="noStrike">
                <a:solidFill>
                  <a:srgbClr val="66ff99"/>
                </a:solidFill>
                <a:latin typeface="Arial"/>
              </a:rPr>
              <a:t>卷</a:t>
            </a:r>
            <a:r>
              <a:rPr b="1" lang="zh-CN" sz="3200" spc="-1" strike="noStrike">
                <a:solidFill>
                  <a:srgbClr val="66ff99"/>
                </a:solidFill>
                <a:latin typeface="Arial"/>
              </a:rPr>
              <a:t>36</a:t>
            </a:r>
            <a:r>
              <a:rPr b="1" lang="zh-CN" sz="3200" spc="-1" strike="noStrike">
                <a:solidFill>
                  <a:srgbClr val="66ff99"/>
                </a:solidFill>
                <a:latin typeface="Arial"/>
              </a:rPr>
              <a:t>分</a:t>
            </a:r>
            <a:r>
              <a:rPr b="1" lang="zh-CN" sz="3200" spc="-1" strike="noStrike">
                <a:solidFill>
                  <a:srgbClr val="66ff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3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7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她认为要学好英语应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198900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一、就犹如修房子一样要先打好基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35002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二、强化对语法的理解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479736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三、注重对语法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特殊词句等的复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3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7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们初中生，学习英语好与差的差别除个别同学有较好的语言学习天赋外，最根本的原因在于是否养成了良好的学习习惯，是否重视形成科学的学习策略，是否每天都坚持自觉、主动地在听、说、读、写四项语言技能的训练方面强化实践，使所学所知转化为自身的语言技能。“兴趣———积累———思维———实践”是英语学习的科学规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0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外语学习是通过挖掘学习者的意识和潜意识，在充足的语言输入作用下，通过交际活动和语言训练，使之转化为学习者的自动语言。在初中各门课程的学习中，都需要有充分自主学习的能力，学习完之后还要进行实践，才能最大限度地提高学习英语的效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3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88640"/>
            <a:ext cx="67071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8850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848720" y="0"/>
            <a:ext cx="129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张绍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三年级四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次考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物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她认为要学好物理应该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628640"/>
            <a:ext cx="729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一、认真听讲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不能遗漏任何一个细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299736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二、认真总结课堂内容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有疑必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076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三、反复推算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弄清概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515772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四、广泛接触体型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认真练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2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7" dur="3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物理试题涉及知识范围都很广。所以，必须全面掌握知识点，注意细节上的落实，特别在复习中要做到“网大眼小”，不留遗漏，才足以应对考试。对于成绩优秀的同学来说，全面扎实掌握知识是拿高分的保证；对于成绩中等或不佳的同学来说，知识全面也能为你制造拿好分数的机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3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2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2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准确审题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试题联系实际多，语言描述丰富，所以，一定要提高自己阅读理解题意能力，应注意区分语言描述中的关键性、描述性和限制性因素，寻找直接条件和隐含条件，准确了解题意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定性分析，以严密的逻辑找出试题的物理情境、物理状态，让知识点像幻灯片一样在脑海中一一重现，定位解题思路，选择物理规律，建立解题方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50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简洁解答根据所掌握的书本知识和实践经验，选择最简洁最准确的方法解答，提高解题速度，也能给阅卷老师留下较好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3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2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2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333360"/>
            <a:ext cx="6491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88508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885080" y="189000"/>
            <a:ext cx="1258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卢小梅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三年级二班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在本次考试中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化学得了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86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分</a:t>
            </a:r>
            <a:r>
              <a:rPr b="0" lang="zh-CN" sz="36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3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一、课前要预习课前预习的目的是对整节课有一个大致了解，对一些难点问题提前思考并做标记。这样在听课过程中才能触类旁通地掌握知识。预习时，不能像看小说一样走马观花地看一遍，而要对整节课的内容进行思考式的阅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她认为学好化学的关键是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916280"/>
            <a:ext cx="799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一、兴趣是最好的老师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3041640"/>
            <a:ext cx="66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068640"/>
            <a:ext cx="72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二、培养自己的观察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实验和思维能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5013360"/>
            <a:ext cx="741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三、强化记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7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5690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首先要立足基础、回归教材，切忌题海战术。要设计有针对性的训练题，以“中等难度”为主；要淘汰偏、难、怪的题目，训练要落到实处，切忌走捷径、不动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2637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其次注重简答题的训练，减少非智力因素失分。简答题复习注意选题、选材，要进行强化训练；注意化学方程式等化学用语的规范使用，避免失误发生；在备考中，要有意识地进行审题的训练，如主题中“从大到小”、“从低到高”、“正确的是”、“不对的是”等字眼要格外注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3419640" y="2349360"/>
            <a:ext cx="2438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0" y="907920"/>
            <a:ext cx="914400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观看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7" name=""/>
          <p:cNvSpPr/>
          <p:nvPr/>
        </p:nvSpPr>
        <p:spPr>
          <a:xfrm>
            <a:off x="4067280" y="6093000"/>
            <a:ext cx="50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2" dur="247467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47467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245233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　   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二、紧跟老师的思路，合理安排时间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　   应高效率听课，最简单的标准就是当老师说了前半句话，你就应该知道老师后半句要说什么，使大脑一直处于兴奋、激活状态 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  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三、大胆发言。现在提倡探究式的教学方法。老师在教学过程中，可能会提出一个问题让同学们从多个层面回答，此时就要大胆发言。也许你的答案是错的，但老师会指出你的错误所在并跟你交流，这样你所学的知识就会进一步被梳理并得到强化，长期坚持下去，思路就会越来越开阔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四、跳过难点如果你在听课过程中想到了一些问题，老师又不可能及时回答，此时要跳过难点，不要一味地想一个问题而放弃其他。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五、及时复习一节课很完整地听下来，接下来很重要的就是复习。一般来说，刚学过的东西遗忘较快，所以为了巩固课堂知识，晚上一定要把白天所学的知识复习一遍。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3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V="1">
            <a:off x="7956720" y="1825560"/>
            <a:ext cx="136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贺清容</a:t>
            </a: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三年级二班</a:t>
            </a: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本次考试</a:t>
            </a: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语文</a:t>
            </a: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卷</a:t>
            </a: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96</a:t>
            </a: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分</a:t>
            </a: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,B</a:t>
            </a: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卷</a:t>
            </a: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30</a:t>
            </a: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分</a:t>
            </a: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971640" y="6262560"/>
            <a:ext cx="72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4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4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她认为学好语文应该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55736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一、读是学好语文的基础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364500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二、写是学好语文的关键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2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2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05:20:4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15:24Z</dcterms:modified>
  <cp:revision>4</cp:revision>
  <dc:subject>主题班会课件(分28大类): http://shop62905894.taobao.com</dc:subject>
  <dc:title>主题班会课件(分28大类): http://shop62905894.taobao.com</dc:title>
</cp:coreProperties>
</file>