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BB1-C534-41A5-93F1-97B0475C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2BC-573C-4F82-B2D4-CEFFAD0D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773-CA4F-40B9-AAAD-883292AB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65B-4A4D-42D4-9A74-48FF1AA1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2F85-47A6-4C01-B683-2678820B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6171-9FDD-4320-AF07-2F9DEB9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AFDD-C765-422C-8A60-36C033FE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50A6-AA8D-4A11-A83A-00C61DC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A7F1-4DFB-4C23-8FD3-57A67639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549-E968-439B-90FF-3EDAAC11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E8FC-B5D1-46C9-8C74-3F68B731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166-2F0B-4724-8E12-0C25DB3A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961-0336-4328-AA21-7D8866B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E07C-EEC7-4539-BC06-7C9C637B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6FD4-B89C-4FC1-BC8D-6CE310E4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656-D60E-4F21-8A37-D7D84BB7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C8F5-EDA3-44EE-AB30-83279DF3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A0C-134A-496B-9E8F-64CB2EE7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2CC-92F9-4EF9-AF03-83D45DD4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E95-70E9-49A8-9BEA-B4E9C699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035-DF76-46ED-B72D-CFD72D98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5AA-61C1-4380-9F47-3B7B6E5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25A-8C3A-4E53-85C8-BEA86C3B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065-5CD1-461D-AE6C-465F47C6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1B67-EB87-4CEC-B844-D072D2C947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62D8-E192-4FC1-8784-81A2A66E7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38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124000" y="1125360"/>
            <a:ext cx="590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学习中的互动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340000" y="2421000"/>
            <a:ext cx="54738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心理链接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/>
          <p:nvPr/>
        </p:nvSpPr>
        <p:spPr>
          <a:xfrm>
            <a:off x="275112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333360"/>
            <a:ext cx="2484360" cy="1513080"/>
          </a:xfrm>
          <a:custGeom>
            <a:avLst/>
            <a:gdLst>
              <a:gd name="textAreaLeft" fmla="*/ 434520 w 2484360"/>
              <a:gd name="textAreaRight" fmla="*/ 1801080 w 2484360"/>
              <a:gd name="textAreaTop" fmla="*/ 202680 h 1513080"/>
              <a:gd name="textAreaBottom" fmla="*/ 131040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1295"/>
                <a:lnTo>
                  <a:pt x="21167" y="14395"/>
                </a:lnTo>
                <a:lnTo>
                  <a:pt x="17280" y="21600"/>
                </a:lnTo>
                <a:lnTo>
                  <a:pt x="12527" y="14395"/>
                </a:lnTo>
                <a:lnTo>
                  <a:pt x="14687" y="14395"/>
                </a:lnTo>
                <a:arcTo wR="7560" hR="21600" stAng="-2718705" swAng="-232386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些同学可能觉得自己在某些方面有某些独特的见解，因而不愿和别人交流，生怕被别人学去，超过了自己：殊不知封锁和保守只能作茧自缚。古人云：独学而无友，则孤陋而寡闻”。自己的见解是否都正确，见解的丰富和发展，都能在“集思”中得到验证和实现。互相探讨的过程就是提高和再创造的过程。  “集思”会使每一个参加者都受益不浅。  “控制论’的奠基人维纳十分重视“集思”。参加他们聚会的人中除维纳创立了控制论外，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诺意曼成为“博弈论”奠基人、二进制计算机的创始人之一，别格罗和戈德斯汀是计算机设计的最早参与者，麦克卡洛和匹茨成了“神经控制论”和“人工智能”的奠基人，罗森勃吕特也是控制论的开拓者之一……。这些学科，都是现代科学技术史上闪闪发光的明珠：  “集思”对人对己都大有裨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2124000" y="1412640"/>
            <a:ext cx="8540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5328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834480" y="404640"/>
            <a:ext cx="219132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Arial"/>
                <a:ea typeface="楷体_GB2312"/>
              </a:rPr>
              <a:t>提倡互补和互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703560" y="228240"/>
            <a:ext cx="213516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1ba8c9"/>
                </a:solidFill>
                <a:latin typeface="Arial"/>
                <a:ea typeface="楷体_GB2312"/>
              </a:rPr>
              <a:t>什么是互补</a:t>
            </a:r>
            <a:r>
              <a:rPr b="1" i="1" lang="zh-CN" sz="5400" spc="-1" strike="noStrike">
                <a:solidFill>
                  <a:srgbClr val="1ba8c9"/>
                </a:solidFill>
                <a:latin typeface="Arial"/>
                <a:ea typeface="楷体_GB2312"/>
              </a:rPr>
              <a:t>?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98440" y="228240"/>
            <a:ext cx="62532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就是取人之长、补己之短。比如，你擅长文，我擅长理，我们可以互补；你思维活跃，我思考深刻，我们也可以互补。彼此的互补使人在横向得以发展，走向全面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18367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是互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808000"/>
                </a:solidFill>
                <a:latin typeface="Arial"/>
                <a:ea typeface="楷体_GB2312"/>
              </a:rPr>
              <a:t>就是互相推动。这通常是兴趣相投、专长相近的那种情况。这种情况的交流，给人以“够层次”的感觉，正如棋逢对手，将遇良才。彼此的互动使人在纵向得以发展，实现提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08000"/>
                </a:solidFill>
                <a:latin typeface="Arial"/>
                <a:ea typeface="楷体_GB2312"/>
              </a:rPr>
              <a:t>   </a:t>
            </a:r>
            <a:r>
              <a:rPr b="1" i="1" lang="zh-CN" sz="4000" spc="-1" strike="noStrike">
                <a:solidFill>
                  <a:srgbClr val="808000"/>
                </a:solidFill>
                <a:latin typeface="Arial"/>
                <a:ea typeface="楷体_GB2312"/>
              </a:rPr>
              <a:t>一句话，互补使人全面，互动使人深刻。    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43280" y="1844640"/>
            <a:ext cx="457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4542480" y="26370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99"/>
                </a:solidFill>
                <a:latin typeface="Arial"/>
              </a:rPr>
              <a:t>独学而无友，则孤陋而寡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08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新宋体"/>
              </a:rPr>
              <a:t>   </a:t>
            </a:r>
            <a:r>
              <a:rPr b="1" lang="zh-CN" sz="3600" spc="-1" strike="noStrike">
                <a:solidFill>
                  <a:srgbClr val="808000"/>
                </a:solidFill>
                <a:latin typeface="Comic Sans MS"/>
                <a:ea typeface="新宋体"/>
              </a:rPr>
              <a:t>“</a:t>
            </a:r>
            <a:r>
              <a:rPr b="1" lang="zh-CN" sz="3600" spc="-1" strike="noStrike">
                <a:solidFill>
                  <a:srgbClr val="808000"/>
                </a:solidFill>
                <a:latin typeface="Comic Sans MS"/>
                <a:ea typeface="新宋体"/>
              </a:rPr>
              <a:t>人无完人，金无足赤”，任何人都有自己擅长的技能，也有难以克服的缺陷或不足，因此学习和工作中我们都应该互助合作，互惠互利，共同进步。下面先请同学们听这么一个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一个天真的孩子不知天堂和地狱为何物，便去请教一位哲学家。于尽，哲学家把孩子领到一个地方，小孩看到，在很大很深的池子旁坐着一群老者，他们在用很长很长的勺子十分费力地从池子中舀汤喝，尽管空气中飘荡着汤的鲜美味道，这些老者却长得瘦骨嶙峋。哲学家告诉孩子，这就是地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紧接着，孩子又跟着哲学家来到另一个地方。同样阔大的池子，同样的汤，同样长长的勺子，不同的是这些老者，在用长勺给对面的老者舀汤喝的同时，也喝到了对方送过来的汤。小孩子发现这些老者们，个个红光满面，神采飞扬。小孩子若有所恩地说，“我知道了，这里就是天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样的池子，同样的汤，同样的人，但天皇与地狱中的景象却形成了天壤之别，这二者究竟不同在哪里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同学们认真思考后回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4480" y="216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天堂和地狱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675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请同学们再看以下一个材料，看完请说说你的读后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著名的电器镇温州柳市占有全国低压电器的一半产量。这里共生着一个庞大的低压电器企业群，正泰电器、德力西等几家大企业位于金字塔的顶端，在这个金字塔的下面，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2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私营或家庭协厂。媒体评价：“与其说是正泰成就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2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协作厂，不如说是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2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协作厂成就了正泰。”正是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2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企业群，在整体上形成专业化分工和大生产的格局，大幅度节约了制造成本及交易成本。这种模式受到国内外经济学家高度评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据了解，正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％以上的零部件在本地采购，与上游企业形成非常安全稳定的信用关系，流动资金占用量达到最小。近几年，正泰每年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％增长率高速增长，去年产值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亿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00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年，正泰董事长南存辉说，放慢点速度，增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197000"/>
            <a:ext cx="733320" cy="719280"/>
          </a:xfrm>
          <a:custGeom>
            <a:avLst/>
            <a:gdLst>
              <a:gd name="textAreaLeft" fmla="*/ 98280 w 733320"/>
              <a:gd name="textAreaRight" fmla="*/ 635040 w 73332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12920" y="320760"/>
            <a:ext cx="4807800" cy="4164120"/>
            <a:chOff x="412920" y="320760"/>
            <a:chExt cx="4807800" cy="4164120"/>
          </a:xfrm>
        </p:grpSpPr>
        <p:sp>
          <p:nvSpPr>
            <p:cNvPr id="516" name="_s47112"/>
            <p:cNvSpPr/>
            <p:nvPr/>
          </p:nvSpPr>
          <p:spPr>
            <a:xfrm>
              <a:off x="1351080" y="320760"/>
              <a:ext cx="2932200" cy="293220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47113"/>
            <p:cNvSpPr/>
            <p:nvPr/>
          </p:nvSpPr>
          <p:spPr>
            <a:xfrm rot="7200000">
              <a:off x="1751760" y="1015920"/>
              <a:ext cx="2932200" cy="293220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47115"/>
            <p:cNvSpPr/>
            <p:nvPr/>
          </p:nvSpPr>
          <p:spPr>
            <a:xfrm rot="14400000">
              <a:off x="949320" y="1015200"/>
              <a:ext cx="2932200" cy="293220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47110"/>
            <p:cNvSpPr/>
            <p:nvPr/>
          </p:nvSpPr>
          <p:spPr>
            <a:xfrm>
              <a:off x="3619440" y="857160"/>
              <a:ext cx="11764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8dc7c"/>
                  </a:solidFill>
                  <a:latin typeface="Arial"/>
                </a:rPr>
                <a:t>我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47111"/>
            <p:cNvSpPr/>
            <p:nvPr/>
          </p:nvSpPr>
          <p:spPr>
            <a:xfrm>
              <a:off x="2230560" y="3268800"/>
              <a:ext cx="1176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8dc7c"/>
                  </a:solidFill>
                  <a:latin typeface="Arial"/>
                </a:rPr>
                <a:t>大家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47114"/>
            <p:cNvSpPr/>
            <p:nvPr/>
          </p:nvSpPr>
          <p:spPr>
            <a:xfrm>
              <a:off x="836640" y="858960"/>
              <a:ext cx="11764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8dc7c"/>
                  </a:solidFill>
                  <a:latin typeface="Arial"/>
                </a:rPr>
                <a:t>你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4099320" y="4508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dc7c"/>
                </a:solidFill>
                <a:latin typeface="Arial"/>
                <a:ea typeface="楷体_GB2312"/>
              </a:rPr>
              <a:t>说说我们身边的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2773800" y="549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作业抄袭”，  “考试合作”，你怎么看</a:t>
            </a:r>
            <a:r>
              <a:rPr b="0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24000" y="333360"/>
            <a:ext cx="2087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现象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怎样认识和处理帮助别人和自我学习的矛盾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5280" y="476280"/>
            <a:ext cx="2411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现象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76208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609120" y="1599840"/>
            <a:ext cx="4000680" cy="44989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95280" y="333360"/>
            <a:ext cx="1352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互 帮 互 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4d212"/>
                </a:solidFill>
                <a:latin typeface="Arial"/>
              </a:rPr>
              <a:t>请你和其他同学自愿结成互助学习的对子或              小组，确定互助活动的时间、地点、内容和</a:t>
            </a:r>
            <a:br>
              <a:rPr sz="3200"/>
            </a:br>
            <a:r>
              <a:rPr b="0" lang="zh-CN" sz="3200" spc="-1" strike="noStrike">
                <a:solidFill>
                  <a:srgbClr val="c4d212"/>
                </a:solidFill>
                <a:latin typeface="Arial"/>
              </a:rPr>
              <a:t>方式，写在各自的书本上。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95280" y="2060640"/>
          <a:ext cx="8153280" cy="4535280"/>
        </p:xfrm>
        <a:graphic>
          <a:graphicData uri="http://schemas.openxmlformats.org/drawingml/2006/table">
            <a:tbl>
              <a:tblPr/>
              <a:tblGrid>
                <a:gridCol w="2519280"/>
                <a:gridCol w="56340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互动组成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地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5:16:5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40:52Z</dcterms:modified>
  <cp:revision>12</cp:revision>
  <dc:subject>主题班会课件(分28大类): http://shop62905894.taobao.com</dc:subject>
  <dc:title>主题班会课件(分28大类): http://shop62905894.taobao.com</dc:title>
</cp:coreProperties>
</file>