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01A-90F0-4508-98F6-A68771A6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04B-970F-4589-B8E1-21FA7719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653E-EE37-48B5-BDBF-07791193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071-1C26-4F88-87D2-22CA12DF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9362-DA84-4BB8-BB32-9A4DACD0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0ADA-B7FE-49FB-8E89-20547DCC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1A60-CB33-4237-AD48-61979EFE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64D1-7F2D-43FC-8E8B-44EA69BD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76CB-9A13-48B5-8E97-CB882D7E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AB94-CB9B-44BC-9794-AB3C38FB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1D4E-1F7F-4AA6-9AA7-1B8D4567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F01-E6DC-4DC7-B23B-13347138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5587-8EA9-4B5F-9352-6277B011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7C75-CEDC-4381-8013-5104B312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81FE-F598-4AC5-8D27-63B6755C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7AC1-6FA7-4829-9166-4298154D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6ACC-FE1E-4198-8B17-11A037C0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EC0AF-9465-46A4-A5D4-CB7F2238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AA555-0CFA-44AF-BA2D-78D3AC08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151AC-F09C-4E5C-950F-4D096EC4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9611A-DB69-45A7-B88C-426C3FBD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59B28-496F-4E2E-B732-C4509212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900-AB11-49A0-B319-B5BF8B3C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44B00-A104-429B-8E44-FEC8645F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04CE3-D61A-4B46-9DD7-9FE7D2C4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3E0BC-2D8B-4B05-BC7A-44539328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AE7A6-7873-4E58-8D8F-F28106EE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A342A-090B-4EE6-AA4B-065B2ABA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8E512-8DBD-4578-8F54-AF70CA9D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8F4F0-FC79-4502-9AD1-EB7484A0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095FD-888E-4DCE-B5A9-A3F53736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1961A-6DBC-4DCD-8C87-2C99A9DC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C9F24-082C-467C-A433-6C0AA3CE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162-B1C5-4130-A9AA-4DECC395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AE1C8-B966-4197-B1E2-D63A2CF5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4CB6F-50A2-4383-98C9-D6898AF6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DCA35-99B9-4E13-B9F5-8A970132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A7930-B23B-482D-AF6B-8553C24E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C6115-BF0D-4B7E-A7FD-01D540F3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89AFE-9958-4BF1-BC1F-088575BB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F2C77-58ED-45D1-8647-6C9607FB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720A0-A450-422E-829B-281DB2A8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F2977-615A-404F-8808-E1AFCE30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3FA-BA13-4F5F-9054-724169C2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707-3BD1-4A67-A5D2-7DA1D973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87F-27D5-498A-ACD1-E9B78EE8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03A-EE06-4485-892C-5A1EC268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0B4-F485-4335-84E8-858A85B0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4943-C29E-4793-AC7F-DF7294DA79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6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68F4-62C1-48A9-9186-DC9428271D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12B8-5C24-40DD-8227-B430183ACD0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CCF1-35BC-4F79-B68D-58C02EFD6DF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C:/Documents%20and%20Settings/Administrator/&#26700;&#38754;/&#25919;&#27835;.doc" TargetMode="External"/><Relationship Id="rId3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179280" y="1989000"/>
            <a:ext cx="874872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新魏"/>
              </a:rPr>
              <a:t>在路上，且行且反思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484360" y="2997360"/>
            <a:ext cx="388944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月考总结会</a:t>
            </a:r>
            <a:endParaRPr b="1" lang="en-US" sz="9600" spc="1" strike="noStrike">
              <a:ln w="12600">
                <a:solidFill>
                  <a:srgbClr val="0066ff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1" name=""/>
          <p:cNvSpPr/>
          <p:nvPr/>
        </p:nvSpPr>
        <p:spPr>
          <a:xfrm>
            <a:off x="5016960" y="4888080"/>
            <a:ext cx="1938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514"/>
                </a:solidFill>
                <a:latin typeface="迷你简启体"/>
                <a:ea typeface="迷你简启体"/>
              </a:rPr>
              <a:t>高一（</a:t>
            </a:r>
            <a:r>
              <a:rPr b="1" lang="zh-CN" sz="3400" spc="-1" strike="noStrike">
                <a:solidFill>
                  <a:srgbClr val="000514"/>
                </a:solidFill>
                <a:latin typeface="迷你简启体"/>
                <a:ea typeface="迷你简启体"/>
              </a:rPr>
              <a:t>7</a:t>
            </a:r>
            <a:r>
              <a:rPr b="1" lang="zh-CN" sz="3400" spc="-1" strike="noStrike">
                <a:solidFill>
                  <a:srgbClr val="000514"/>
                </a:solidFill>
                <a:latin typeface="迷你简启体"/>
                <a:ea typeface="迷你简启体"/>
              </a:rPr>
              <a:t>）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0414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         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满足三总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(285)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且双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B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者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52280"/>
            <a:ext cx="1332000" cy="1044720"/>
          </a:xfrm>
          <a:custGeom>
            <a:avLst/>
            <a:gdLst>
              <a:gd name="textAreaLeft" fmla="*/ 312840 w 1332000"/>
              <a:gd name="textAreaRight" fmla="*/ 1018080 w 1332000"/>
              <a:gd name="textAreaTop" fmla="*/ 122760 h 1044720"/>
              <a:gd name="textAreaBottom" fmla="*/ 655200 h 1044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79280" y="1197000"/>
          <a:ext cx="8064720" cy="4875120"/>
        </p:xfrm>
        <a:graphic>
          <a:graphicData uri="http://schemas.openxmlformats.org/drawingml/2006/table">
            <a:tbl>
              <a:tblPr/>
              <a:tblGrid>
                <a:gridCol w="2367000"/>
                <a:gridCol w="1656000"/>
                <a:gridCol w="2098440"/>
                <a:gridCol w="1943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三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翟静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袁梦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陆之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3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陈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周姣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徐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         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满足三总且双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B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者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52280"/>
            <a:ext cx="1332000" cy="1044720"/>
          </a:xfrm>
          <a:custGeom>
            <a:avLst/>
            <a:gdLst>
              <a:gd name="textAreaLeft" fmla="*/ 312840 w 1332000"/>
              <a:gd name="textAreaRight" fmla="*/ 1018080 w 1332000"/>
              <a:gd name="textAreaTop" fmla="*/ 122760 h 1044720"/>
              <a:gd name="textAreaBottom" fmla="*/ 655200 h 1044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79280" y="1197000"/>
          <a:ext cx="8064720" cy="4875120"/>
        </p:xfrm>
        <a:graphic>
          <a:graphicData uri="http://schemas.openxmlformats.org/drawingml/2006/table">
            <a:tbl>
              <a:tblPr/>
              <a:tblGrid>
                <a:gridCol w="2367000"/>
                <a:gridCol w="1656000"/>
                <a:gridCol w="2098440"/>
                <a:gridCol w="1943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三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张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毛雯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张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季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陆敏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陈梦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         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满足三总且双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B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者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52280"/>
            <a:ext cx="1332000" cy="1044720"/>
          </a:xfrm>
          <a:custGeom>
            <a:avLst/>
            <a:gdLst>
              <a:gd name="textAreaLeft" fmla="*/ 312840 w 1332000"/>
              <a:gd name="textAreaRight" fmla="*/ 1018080 w 1332000"/>
              <a:gd name="textAreaTop" fmla="*/ 122760 h 1044720"/>
              <a:gd name="textAreaBottom" fmla="*/ 655200 h 1044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9280" y="1197000"/>
          <a:ext cx="8064720" cy="4875120"/>
        </p:xfrm>
        <a:graphic>
          <a:graphicData uri="http://schemas.openxmlformats.org/drawingml/2006/table">
            <a:tbl>
              <a:tblPr/>
              <a:tblGrid>
                <a:gridCol w="2367000"/>
                <a:gridCol w="1656000"/>
                <a:gridCol w="2098440"/>
                <a:gridCol w="1943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三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李中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王雨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黄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钱佳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肖林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顾贤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         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满足三总且双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B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者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52280"/>
            <a:ext cx="1332000" cy="1044720"/>
          </a:xfrm>
          <a:custGeom>
            <a:avLst/>
            <a:gdLst>
              <a:gd name="textAreaLeft" fmla="*/ 312840 w 1332000"/>
              <a:gd name="textAreaRight" fmla="*/ 1018080 w 1332000"/>
              <a:gd name="textAreaTop" fmla="*/ 122760 h 1044720"/>
              <a:gd name="textAreaBottom" fmla="*/ 655200 h 1044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79280" y="1197000"/>
          <a:ext cx="8064720" cy="4925880"/>
        </p:xfrm>
        <a:graphic>
          <a:graphicData uri="http://schemas.openxmlformats.org/drawingml/2006/table">
            <a:tbl>
              <a:tblPr/>
              <a:tblGrid>
                <a:gridCol w="2367000"/>
                <a:gridCol w="1656000"/>
                <a:gridCol w="2098440"/>
                <a:gridCol w="1943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三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钱新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周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李曦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陈智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9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3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张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9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陆义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9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         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满足三总且双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B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者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52280"/>
            <a:ext cx="1332000" cy="1044720"/>
          </a:xfrm>
          <a:custGeom>
            <a:avLst/>
            <a:gdLst>
              <a:gd name="textAreaLeft" fmla="*/ 312840 w 1332000"/>
              <a:gd name="textAreaRight" fmla="*/ 1018080 w 1332000"/>
              <a:gd name="textAreaTop" fmla="*/ 122760 h 1044720"/>
              <a:gd name="textAreaBottom" fmla="*/ 655200 h 1044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9280" y="1197000"/>
          <a:ext cx="8064720" cy="5600520"/>
        </p:xfrm>
        <a:graphic>
          <a:graphicData uri="http://schemas.openxmlformats.org/drawingml/2006/table">
            <a:tbl>
              <a:tblPr/>
              <a:tblGrid>
                <a:gridCol w="2367000"/>
                <a:gridCol w="1656000"/>
                <a:gridCol w="2098440"/>
                <a:gridCol w="1943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三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5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徐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9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蒋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9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7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夏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8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袁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9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夏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郭依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孔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8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         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三总满足，双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B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未满足者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2280"/>
            <a:ext cx="1332000" cy="1044720"/>
          </a:xfrm>
          <a:custGeom>
            <a:avLst/>
            <a:gdLst>
              <a:gd name="textAreaLeft" fmla="*/ 312840 w 1332000"/>
              <a:gd name="textAreaRight" fmla="*/ 1018080 w 1332000"/>
              <a:gd name="textAreaTop" fmla="*/ 122760 h 1044720"/>
              <a:gd name="textAreaBottom" fmla="*/ 655200 h 1044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可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79280" y="1197000"/>
          <a:ext cx="8064720" cy="4875120"/>
        </p:xfrm>
        <a:graphic>
          <a:graphicData uri="http://schemas.openxmlformats.org/drawingml/2006/table">
            <a:tbl>
              <a:tblPr/>
              <a:tblGrid>
                <a:gridCol w="2367000"/>
                <a:gridCol w="1656000"/>
                <a:gridCol w="2098440"/>
                <a:gridCol w="1943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三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顾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4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徐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3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贺燕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卢怡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徐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姚倩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         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三总满足，双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B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未满足者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52280"/>
            <a:ext cx="1332000" cy="1044720"/>
          </a:xfrm>
          <a:custGeom>
            <a:avLst/>
            <a:gdLst>
              <a:gd name="textAreaLeft" fmla="*/ 312840 w 1332000"/>
              <a:gd name="textAreaRight" fmla="*/ 1018080 w 1332000"/>
              <a:gd name="textAreaTop" fmla="*/ 122760 h 1044720"/>
              <a:gd name="textAreaBottom" fmla="*/ 655200 h 1044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可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79280" y="1197000"/>
          <a:ext cx="8064720" cy="4875120"/>
        </p:xfrm>
        <a:graphic>
          <a:graphicData uri="http://schemas.openxmlformats.org/drawingml/2006/table">
            <a:tbl>
              <a:tblPr/>
              <a:tblGrid>
                <a:gridCol w="2367000"/>
                <a:gridCol w="1656000"/>
                <a:gridCol w="2098440"/>
                <a:gridCol w="1943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三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刘雨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沈益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谭丽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江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陈梦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严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         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三总满足，双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B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未满足者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52280"/>
            <a:ext cx="1332000" cy="1044720"/>
          </a:xfrm>
          <a:custGeom>
            <a:avLst/>
            <a:gdLst>
              <a:gd name="textAreaLeft" fmla="*/ 312840 w 1332000"/>
              <a:gd name="textAreaRight" fmla="*/ 1018080 w 1332000"/>
              <a:gd name="textAreaTop" fmla="*/ 122760 h 1044720"/>
              <a:gd name="textAreaBottom" fmla="*/ 655200 h 1044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可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9280" y="1197000"/>
          <a:ext cx="8064720" cy="3435480"/>
        </p:xfrm>
        <a:graphic>
          <a:graphicData uri="http://schemas.openxmlformats.org/drawingml/2006/table">
            <a:tbl>
              <a:tblPr/>
              <a:tblGrid>
                <a:gridCol w="2367000"/>
                <a:gridCol w="1656000"/>
                <a:gridCol w="2098440"/>
                <a:gridCol w="1943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三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徐晨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9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顾梦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解文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钱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         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三总未满足，双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B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满足者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52280"/>
            <a:ext cx="1332000" cy="1044720"/>
          </a:xfrm>
          <a:custGeom>
            <a:avLst/>
            <a:gdLst>
              <a:gd name="textAreaLeft" fmla="*/ 312840 w 1332000"/>
              <a:gd name="textAreaRight" fmla="*/ 1018080 w 1332000"/>
              <a:gd name="textAreaTop" fmla="*/ 122760 h 1044720"/>
              <a:gd name="textAreaBottom" fmla="*/ 655200 h 1044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可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79280" y="1197000"/>
          <a:ext cx="8064720" cy="3600000"/>
        </p:xfrm>
        <a:graphic>
          <a:graphicData uri="http://schemas.openxmlformats.org/drawingml/2006/table">
            <a:tbl>
              <a:tblPr/>
              <a:tblGrid>
                <a:gridCol w="2367000"/>
                <a:gridCol w="1656000"/>
                <a:gridCol w="2098440"/>
                <a:gridCol w="1943280"/>
              </a:tblGrid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三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张琳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7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袁明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         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三总未满足，双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B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未满足者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52280"/>
            <a:ext cx="1332000" cy="1044720"/>
          </a:xfrm>
          <a:custGeom>
            <a:avLst/>
            <a:gdLst>
              <a:gd name="textAreaLeft" fmla="*/ 312840 w 1332000"/>
              <a:gd name="textAreaRight" fmla="*/ 1018080 w 1332000"/>
              <a:gd name="textAreaTop" fmla="*/ 122760 h 1044720"/>
              <a:gd name="textAreaBottom" fmla="*/ 655200 h 1044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可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39640" y="1197000"/>
          <a:ext cx="8064720" cy="3179880"/>
        </p:xfrm>
        <a:graphic>
          <a:graphicData uri="http://schemas.openxmlformats.org/drawingml/2006/table">
            <a:tbl>
              <a:tblPr/>
              <a:tblGrid>
                <a:gridCol w="2367000"/>
                <a:gridCol w="1656000"/>
                <a:gridCol w="2098440"/>
                <a:gridCol w="19432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三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历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周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27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俞香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潘佳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2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李彤彤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2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324000" y="4667400"/>
            <a:ext cx="88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迷你简启体"/>
              </a:rPr>
              <a:t>建议：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迷你简启体"/>
              </a:rPr>
              <a:t>巧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迷你简启体"/>
              </a:rPr>
              <a:t>抓选修，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迷你简启体"/>
              </a:rPr>
              <a:t>狠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迷你简启体"/>
              </a:rPr>
              <a:t>抓三总，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迷你简启体"/>
              </a:rPr>
              <a:t>重点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迷你简启体"/>
              </a:rPr>
              <a:t>突破数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395280" y="1341360"/>
            <a:ext cx="3857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月考意义：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2565360"/>
            <a:ext cx="874872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514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514"/>
                </a:solidFill>
                <a:latin typeface="Times New Roman"/>
              </a:rPr>
              <a:t>、明确高考模式“三</a:t>
            </a:r>
            <a:r>
              <a:rPr b="1" lang="zh-CN" sz="4800" spc="-1" strike="noStrike">
                <a:solidFill>
                  <a:srgbClr val="000514"/>
                </a:solidFill>
                <a:latin typeface="Times New Roman"/>
              </a:rPr>
              <a:t>+</a:t>
            </a:r>
            <a:r>
              <a:rPr b="1" lang="zh-CN" sz="4800" spc="-1" strike="noStrike">
                <a:solidFill>
                  <a:srgbClr val="000514"/>
                </a:solidFill>
                <a:latin typeface="Times New Roman"/>
              </a:rPr>
              <a:t>选修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514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514"/>
                </a:solidFill>
                <a:latin typeface="Times New Roman"/>
              </a:rPr>
              <a:t>、明确分班后自己的学习状态，及时调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971640" y="2133720"/>
            <a:ext cx="7345440" cy="187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你言我语话得失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324000" y="189000"/>
            <a:ext cx="40669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学生反思汇总：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765000"/>
            <a:ext cx="8675640" cy="33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514"/>
                </a:solidFill>
                <a:latin typeface="Times New Roman"/>
              </a:rPr>
              <a:t>语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514"/>
                </a:solidFill>
                <a:latin typeface="Times New Roman"/>
              </a:rPr>
              <a:t>1</a:t>
            </a:r>
            <a:r>
              <a:rPr b="1" lang="zh-CN" sz="3400" spc="-1" strike="noStrike">
                <a:solidFill>
                  <a:srgbClr val="000514"/>
                </a:solidFill>
                <a:latin typeface="Times New Roman"/>
              </a:rPr>
              <a:t>有几题是改错的，对自己没有信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514"/>
                </a:solidFill>
                <a:latin typeface="Times New Roman"/>
              </a:rPr>
              <a:t>2</a:t>
            </a:r>
            <a:r>
              <a:rPr b="1" lang="zh-CN" sz="3400" spc="-1" strike="noStrike">
                <a:solidFill>
                  <a:srgbClr val="000514"/>
                </a:solidFill>
                <a:latin typeface="Times New Roman"/>
              </a:rPr>
              <a:t>在平时的学习里没有及时将一些重要的解题技巧进行整理和归纳，答题格式也不十分规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514"/>
                </a:solidFill>
                <a:latin typeface="Times New Roman"/>
              </a:rPr>
              <a:t>3</a:t>
            </a:r>
            <a:r>
              <a:rPr b="1" lang="zh-CN" sz="3400" spc="-1" strike="noStrike">
                <a:solidFill>
                  <a:srgbClr val="000514"/>
                </a:solidFill>
                <a:latin typeface="Times New Roman"/>
              </a:rPr>
              <a:t>基础不牢，默写存在错误，读题目不够仔细，答题不够规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514"/>
                </a:solidFill>
                <a:latin typeface="Times New Roman"/>
              </a:rPr>
              <a:t>4</a:t>
            </a:r>
            <a:r>
              <a:rPr b="1" lang="zh-CN" sz="3400" spc="-1" strike="noStrike">
                <a:solidFill>
                  <a:srgbClr val="000514"/>
                </a:solidFill>
                <a:latin typeface="Times New Roman"/>
              </a:rPr>
              <a:t>字迹太马虎，涂改明显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-433440" y="0"/>
            <a:ext cx="957744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514"/>
                </a:solidFill>
                <a:latin typeface="Times New Roman"/>
              </a:rPr>
              <a:t>数学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审题不细心，不会进行系统检查，填空题不会利用“回代法”进行验证，简单题目忘乎所以，不注意题目的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公式会背了，但却不得分，应该平时偷懒了，做到要计算，把公式写好了，旁边的同学算好了，就复制一下答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连基础的计算都要失误，实在太浮躁，无法做到踏实与稳重，加上对有些知识点的掌握也不是很全面，所以纰漏很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把老师上课反复强调的知识点遗忘了，不会做的题目没有多去探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所考查的知识点不够明确，所做的方法不够熟练，说到底还是缺少练习和钻研精神，以后做了题目最重要的是反思，追求质量而不是数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-152280" y="765000"/>
            <a:ext cx="929628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514"/>
                </a:solidFill>
                <a:latin typeface="Times New Roman"/>
              </a:rPr>
              <a:t>外语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514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514"/>
                </a:solidFill>
                <a:latin typeface="Times New Roman"/>
              </a:rPr>
              <a:t>对单词、用法没有达到熟悉的程度，没有记熟、背熟，及时巩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514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514"/>
                </a:solidFill>
                <a:latin typeface="Times New Roman"/>
              </a:rPr>
              <a:t>阅读理解是我的弱项，对于做题时间、做题准确率没有严格要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514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514"/>
                </a:solidFill>
                <a:latin typeface="Times New Roman"/>
              </a:rPr>
              <a:t>审查试卷，还是免不了很多类似因拼写拼错的小错误而被扣分之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-252360" y="189000"/>
            <a:ext cx="9396360" cy="35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514"/>
                </a:solidFill>
                <a:latin typeface="Times New Roman"/>
              </a:rPr>
              <a:t>选修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514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514"/>
                </a:solidFill>
                <a:latin typeface="Times New Roman"/>
              </a:rPr>
              <a:t>概念不清，书读得不熟不透，每次只是机械化的背老师要求的内容，自己没有真正去理清框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514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514"/>
                </a:solidFill>
                <a:latin typeface="Times New Roman"/>
              </a:rPr>
              <a:t>简答题对课本内知识点还不能灵活应用，所谓“题在书外，理在书内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514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514"/>
                </a:solidFill>
                <a:latin typeface="Times New Roman"/>
              </a:rPr>
              <a:t>题目并不停留在背诵上，更多的是灵活应用，而对书本的框架结构，重点生疏，许多题目不知道从何下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514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514"/>
                </a:solidFill>
                <a:latin typeface="Times New Roman"/>
              </a:rPr>
              <a:t>只背答案，不背题目，死记硬背，不加理解，答题走马观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514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514"/>
                </a:solidFill>
                <a:latin typeface="Times New Roman"/>
              </a:rPr>
              <a:t>平时只认为政治只需要死记硬背，不抓牢基本结构与基本框架，乱答题目，死记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324000" y="404640"/>
            <a:ext cx="3714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老师的诊断：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268280"/>
            <a:ext cx="91440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514"/>
                </a:solidFill>
                <a:latin typeface="Times New Roman"/>
              </a:rPr>
              <a:t>语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514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514"/>
                </a:solidFill>
                <a:latin typeface="Times New Roman"/>
              </a:rPr>
              <a:t>基础知识（字音、成语、病句、语用题、实词等）重在平时积累，及时反馈在笔记本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514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514"/>
                </a:solidFill>
                <a:latin typeface="Times New Roman"/>
              </a:rPr>
              <a:t>注意书写规范，不写错别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514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514"/>
                </a:solidFill>
                <a:latin typeface="Times New Roman"/>
              </a:rPr>
              <a:t>做到认真审题，圈划关键词，规范答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514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514"/>
                </a:solidFill>
                <a:latin typeface="Times New Roman"/>
              </a:rPr>
              <a:t>听讲试卷时做到详记解题思路，略记答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324000" y="404640"/>
            <a:ext cx="3714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老师的诊断：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268280"/>
            <a:ext cx="914400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514"/>
                </a:solidFill>
                <a:latin typeface="Times New Roman"/>
              </a:rPr>
              <a:t>数学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514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514"/>
                </a:solidFill>
                <a:latin typeface="Times New Roman"/>
              </a:rPr>
              <a:t>基本概念、公式记忆不到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514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514"/>
                </a:solidFill>
                <a:latin typeface="Times New Roman"/>
              </a:rPr>
              <a:t>审题不清，解题一味求速度，不求质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514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514"/>
                </a:solidFill>
                <a:latin typeface="Times New Roman"/>
              </a:rPr>
              <a:t>答题规范性应引起重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514"/>
                </a:solidFill>
                <a:latin typeface="Times New Roman"/>
              </a:rPr>
              <a:t>希望：在今后的学习与复习中，注意题型的归类于方法的积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324000" y="404640"/>
            <a:ext cx="3714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老师的诊断：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1268280"/>
            <a:ext cx="914400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外语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基础要打牢，基础分不能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要适当延伸拓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要主动提问或找老师面批作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324000" y="404640"/>
            <a:ext cx="3714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老师的诊断：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268280"/>
            <a:ext cx="9144000" cy="31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514"/>
                </a:solidFill>
                <a:latin typeface="Times New Roman"/>
              </a:rPr>
              <a:t>历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514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514"/>
                </a:solidFill>
                <a:latin typeface="Times New Roman"/>
              </a:rPr>
              <a:t>审题十分重要，要根据题意来作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514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514"/>
                </a:solidFill>
                <a:latin typeface="Times New Roman"/>
              </a:rPr>
              <a:t>答题要规范，序列化、要点化，语言精炼（用书本语言作答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514"/>
                </a:solidFill>
                <a:latin typeface="Times New Roman"/>
              </a:rPr>
              <a:t>希望：以学案为切入点，做好 “预习——巩固”环节；以默写为基础点，做好“背诵——订正”环节；以课堂为侧重点，紧跟课堂节奏，勤思善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         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三总年级前五十名名单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52280"/>
            <a:ext cx="1332000" cy="1044720"/>
          </a:xfrm>
          <a:custGeom>
            <a:avLst/>
            <a:gdLst>
              <a:gd name="textAreaLeft" fmla="*/ 312840 w 1332000"/>
              <a:gd name="textAreaRight" fmla="*/ 1018080 w 1332000"/>
              <a:gd name="textAreaTop" fmla="*/ 122760 h 1044720"/>
              <a:gd name="textAreaBottom" fmla="*/ 655200 h 1044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79280" y="1197000"/>
          <a:ext cx="8518680" cy="5327640"/>
        </p:xfrm>
        <a:graphic>
          <a:graphicData uri="http://schemas.openxmlformats.org/drawingml/2006/table">
            <a:tbl>
              <a:tblPr/>
              <a:tblGrid>
                <a:gridCol w="2366280"/>
                <a:gridCol w="1655640"/>
                <a:gridCol w="2761560"/>
                <a:gridCol w="1735200"/>
              </a:tblGrid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年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年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翟静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徐    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顾    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徐    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袁梦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贺燕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陆之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张    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陈    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毛雯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周娇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卢怡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324000" y="404640"/>
            <a:ext cx="3714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老师的诊断：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268280"/>
            <a:ext cx="9144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政治</a:t>
            </a:r>
            <a:r>
              <a:rPr b="1" lang="zh-CN" sz="4400" spc="-1" strike="noStrike">
                <a:solidFill>
                  <a:srgbClr val="000514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0" y="1628280"/>
            <a:ext cx="91440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1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只动嘴，不动脑，学习不会好；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2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只动脑，不动手，知识不长久；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3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只做题，不看书，基础不牢固；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4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时间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+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汗水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+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效率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=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成功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5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有限时间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+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无限题海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=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浪费生命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6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有限时间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+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有限题目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+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深入思考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=</a:t>
            </a:r>
            <a:r>
              <a:rPr b="1" lang="zh-CN" sz="4800" spc="-1" strike="noStrike">
                <a:solidFill>
                  <a:srgbClr val="000514"/>
                </a:solidFill>
                <a:latin typeface="Garamond"/>
              </a:rPr>
              <a:t>最大效率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276720" y="0"/>
            <a:ext cx="30859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迷你简启体"/>
              </a:rPr>
              <a:t>几点看法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迷你简启体"/>
              <a:ea typeface="迷你简启体"/>
            </a:endParaRPr>
          </a:p>
        </p:txBody>
      </p:sp>
    </p:spTree>
  </p:cSld>
  <p:transition spd="slow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0" y="1484280"/>
            <a:ext cx="7991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《养成两个好习惯》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      ——</a:t>
            </a: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走近高考状元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 rot="21190800">
            <a:off x="1476000" y="1773000"/>
            <a:ext cx="6597720" cy="17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迷你简启体"/>
              </a:rPr>
              <a:t>希望通过这一次的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迷你简启体"/>
              <a:ea typeface="迷你简启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692360" y="3933720"/>
            <a:ext cx="63039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迷你简启体"/>
              </a:rPr>
              <a:t>班会你会有点收获</a:t>
            </a: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迷你简启体"/>
              </a:rPr>
              <a:t>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迷你简启体"/>
              <a:ea typeface="迷你简启体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         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三总年级前五十名名单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52280"/>
            <a:ext cx="1332000" cy="1044720"/>
          </a:xfrm>
          <a:custGeom>
            <a:avLst/>
            <a:gdLst>
              <a:gd name="textAreaLeft" fmla="*/ 312840 w 1332000"/>
              <a:gd name="textAreaRight" fmla="*/ 1018080 w 1332000"/>
              <a:gd name="textAreaTop" fmla="*/ 122760 h 1044720"/>
              <a:gd name="textAreaBottom" fmla="*/ 655200 h 1044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24000" y="1125360"/>
          <a:ext cx="8447040" cy="5368680"/>
        </p:xfrm>
        <a:graphic>
          <a:graphicData uri="http://schemas.openxmlformats.org/drawingml/2006/table">
            <a:tbl>
              <a:tblPr/>
              <a:tblGrid>
                <a:gridCol w="2346120"/>
                <a:gridCol w="1643040"/>
                <a:gridCol w="2203560"/>
                <a:gridCol w="22543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年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分班时（人数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月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（人数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张    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季    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陆敏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陈梦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徐    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李中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  <a:ea typeface="华文彩云"/>
              </a:rPr>
              <a:t>          </a:t>
            </a:r>
            <a:r>
              <a:rPr b="1" lang="zh-CN" sz="4000" spc="-1" strike="noStrike">
                <a:solidFill>
                  <a:srgbClr val="e5e5ff"/>
                </a:solidFill>
                <a:latin typeface="Garamond"/>
                <a:ea typeface="华文彩云"/>
              </a:rPr>
              <a:t>较分班时三总名次有进步者：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52280"/>
            <a:ext cx="1332000" cy="1044720"/>
          </a:xfrm>
          <a:custGeom>
            <a:avLst/>
            <a:gdLst>
              <a:gd name="textAreaLeft" fmla="*/ 312840 w 1332000"/>
              <a:gd name="textAreaRight" fmla="*/ 1018080 w 1332000"/>
              <a:gd name="textAreaTop" fmla="*/ 122760 h 1044720"/>
              <a:gd name="textAreaBottom" fmla="*/ 655200 h 1044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8360" y="1197000"/>
          <a:ext cx="8218440" cy="5362560"/>
        </p:xfrm>
        <a:graphic>
          <a:graphicData uri="http://schemas.openxmlformats.org/drawingml/2006/table">
            <a:tbl>
              <a:tblPr/>
              <a:tblGrid>
                <a:gridCol w="2046240"/>
                <a:gridCol w="2057400"/>
                <a:gridCol w="2057400"/>
                <a:gridCol w="20574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现名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原名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进步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徐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贺燕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卢怡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沈益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徐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姚倩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张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  <a:ea typeface="华文彩云"/>
              </a:rPr>
              <a:t>          </a:t>
            </a:r>
            <a:r>
              <a:rPr b="1" lang="zh-CN" sz="4000" spc="-1" strike="noStrike">
                <a:solidFill>
                  <a:srgbClr val="e5e5ff"/>
                </a:solidFill>
                <a:latin typeface="Garamond"/>
                <a:ea typeface="华文彩云"/>
              </a:rPr>
              <a:t>较分班时三总名次有进步者：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52280"/>
            <a:ext cx="1332000" cy="1044720"/>
          </a:xfrm>
          <a:custGeom>
            <a:avLst/>
            <a:gdLst>
              <a:gd name="textAreaLeft" fmla="*/ 312840 w 1332000"/>
              <a:gd name="textAreaRight" fmla="*/ 1018080 w 1332000"/>
              <a:gd name="textAreaTop" fmla="*/ 122760 h 1044720"/>
              <a:gd name="textAreaBottom" fmla="*/ 655200 h 1044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68360" y="1268280"/>
          <a:ext cx="8229600" cy="5280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现名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原名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进步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徐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刘雨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陆之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陆义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袁梦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翟静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陈梦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  <a:ea typeface="华文彩云"/>
              </a:rPr>
              <a:t>          </a:t>
            </a:r>
            <a:r>
              <a:rPr b="1" lang="zh-CN" sz="4000" spc="-1" strike="noStrike">
                <a:solidFill>
                  <a:srgbClr val="e5e5ff"/>
                </a:solidFill>
                <a:latin typeface="Garamond"/>
                <a:ea typeface="华文彩云"/>
              </a:rPr>
              <a:t>较分班时三总名次有进步者：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52280"/>
            <a:ext cx="1332000" cy="1044720"/>
          </a:xfrm>
          <a:custGeom>
            <a:avLst/>
            <a:gdLst>
              <a:gd name="textAreaLeft" fmla="*/ 312840 w 1332000"/>
              <a:gd name="textAreaRight" fmla="*/ 1018080 w 1332000"/>
              <a:gd name="textAreaTop" fmla="*/ 122760 h 1044720"/>
              <a:gd name="textAreaBottom" fmla="*/ 655200 h 1044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197000"/>
          <a:ext cx="8229600" cy="5268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现名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原名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进步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陈梦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陈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季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解文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顾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顾梦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王雨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         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各科前五名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427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Garamond"/>
              </a:rPr>
              <a:t>语文（总分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Garamond"/>
              </a:rPr>
              <a:t>160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Garamond"/>
              </a:rPr>
              <a:t>）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徐颖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13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袁梦婷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12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卢怡冰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11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陈梦媛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10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徐晨静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1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Garamond"/>
              </a:rPr>
              <a:t>数学（总分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Garamond"/>
              </a:rPr>
              <a:t>160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Garamond"/>
              </a:rPr>
              <a:t>）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贺燕燕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50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顾莲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47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翟静霞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44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徐晴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44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陈娜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42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Garamond"/>
              </a:rPr>
              <a:t>外语（总分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Garamond"/>
              </a:rPr>
              <a:t>120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Garamond"/>
              </a:rPr>
              <a:t>）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张晓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06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王雨喜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00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陆之琳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00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季媛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99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李中天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9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52280"/>
            <a:ext cx="1403280" cy="900360"/>
          </a:xfrm>
          <a:custGeom>
            <a:avLst/>
            <a:gdLst>
              <a:gd name="textAreaLeft" fmla="*/ 329760 w 1403280"/>
              <a:gd name="textAreaRight" fmla="*/ 1072440 w 1403280"/>
              <a:gd name="textAreaTop" fmla="*/ 105840 h 900360"/>
              <a:gd name="textAreaBottom" fmla="*/ 564840 h 9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          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华文彩云"/>
              </a:rPr>
              <a:t>各科前五名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427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Garamond"/>
              </a:rPr>
              <a:t>历史（总分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Garamond"/>
              </a:rPr>
              <a:t>120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Garamond"/>
              </a:rPr>
              <a:t>）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李中天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04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陆之琳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01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郭依慧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99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周娇艳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98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袁梦婷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97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钱慧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97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Garamond"/>
              </a:rPr>
              <a:t>政治（总分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Garamond"/>
              </a:rPr>
              <a:t>120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Garamond"/>
              </a:rPr>
              <a:t>）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袁梦婷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10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夏莎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05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陆敏娜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05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张晓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04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陆之琳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01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52280"/>
            <a:ext cx="1403280" cy="900360"/>
          </a:xfrm>
          <a:custGeom>
            <a:avLst/>
            <a:gdLst>
              <a:gd name="textAreaLeft" fmla="*/ 329760 w 1403280"/>
              <a:gd name="textAreaRight" fmla="*/ 1072440 w 1403280"/>
              <a:gd name="textAreaTop" fmla="*/ 105840 h 900360"/>
              <a:gd name="textAreaBottom" fmla="*/ 564840 h 9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0:43:5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44:28Z</dcterms:modified>
  <cp:revision>212</cp:revision>
  <dc:subject>主题班会课件(分28大类): http://shop62905894.taobao.com</dc:subject>
  <dc:title>主题班会课件(分28大类): http://shop62905894.taobao.com</dc:title>
</cp:coreProperties>
</file>