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whoosh.wav" ContentType="audio/x-wav"/>
  <Override PartName="/ppt/media/carbrake.wav" ContentType="audio/x-wav"/>
  <Override PartName="/ppt/media/camera.wav" ContentType="audio/x-wav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A1B-EAE0-4B35-965E-EA5BD56D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804-A7CE-4A35-9490-1395D49F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0ED-B771-4395-B2FF-6F0789E7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DDA-B0A1-4A65-B8AF-EF85515B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B12-161B-4137-A1F2-10BA4717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8C5-A350-44EE-B0BA-91C0D34B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85C-5965-4453-AF00-2F488143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166-D116-43FE-9242-25E02A54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C18-067C-410F-9B4B-BA4979BE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544-8293-48B2-8D7E-24E2C568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4A7-0710-4407-9DC7-0F46F02E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436-984C-4B1B-8A72-FBFB6346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5BF0-A9EC-439A-AE97-FC9B6302E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14600" y="2514600"/>
            <a:ext cx="3200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名句鉴赏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181480" y="4876920"/>
            <a:ext cx="1409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李名峰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04920" y="30492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你只有一定要，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765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才一定会得到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04920" y="304920"/>
            <a:ext cx="7619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成功是以一种快乐的过程，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00200" y="548640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达到你这一生想要达到的目标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成功的人并不是因为他比我们聪明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而是因为他做了跟我们不一样的事情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in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0" y="380880"/>
            <a:ext cx="7162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事业要做大做强，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479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一定要引导一种使命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0" y="380880"/>
            <a:ext cx="7162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世界上没有完美的人，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765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只有完美的团队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685800" y="2819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成功要靠努力和省力！</a:t>
            </a:r>
            <a:endParaRPr b="1" i="1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个人能有成就并在气质上超过常人，往往在于其对待失败的态度，而失败是凡人都会经历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in" orient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成功常会成为下一个失败的原因，反之，任何失败也可能因智慧和努力而成为下一次大成功的原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in" orient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只要不放弃，             就永远没有失败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in" orient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838080" y="2666880"/>
            <a:ext cx="6400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没有思路就没有出路！</a:t>
            </a:r>
            <a:endParaRPr b="1" i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920" y="304920"/>
            <a:ext cx="4572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认真做事只是把事情做对，</a:t>
            </a:r>
            <a:endParaRPr b="0" i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86200" y="5486400"/>
            <a:ext cx="4572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用心做事才能把事情做好！</a:t>
            </a:r>
            <a:endParaRPr b="0" i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80880" y="380880"/>
            <a:ext cx="7162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要让事情改变，先要改变自己；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76520" y="5410080"/>
            <a:ext cx="71625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要让事情变得更好，先要让自己变得更好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52280" y="2743200"/>
            <a:ext cx="8991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员工齐心，管理用心，对用户真心！</a:t>
            </a:r>
            <a:endParaRPr b="1" i="1" lang="en-US" sz="4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0" y="380880"/>
            <a:ext cx="7162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顾客的钞票，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81080" y="548640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就是你业绩的选票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066680" y="2590920"/>
            <a:ext cx="5562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检讨也是成功之母！</a:t>
            </a:r>
            <a:endParaRPr b="1" i="1" lang="en-US" sz="4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066680" y="2438280"/>
            <a:ext cx="69436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总结更是成功之母！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advTm="5000">
    <p:split dir="in" orient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62120" y="2743200"/>
            <a:ext cx="712476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知识只有被使用才有力量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5000"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0" y="380880"/>
            <a:ext cx="7162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当你没有借口的那一刻起，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981080" y="548640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就是你选择成功的开始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838080" y="1447920"/>
            <a:ext cx="7010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不变的环境</a:t>
            </a: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,</a:t>
            </a:r>
            <a:r>
              <a:rPr b="1" i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经验最重要</a:t>
            </a: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;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3505320"/>
            <a:ext cx="7010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变动的环境</a:t>
            </a:r>
            <a:r>
              <a:rPr b="1" i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,</a:t>
            </a:r>
            <a:r>
              <a:rPr b="1" i="1" lang="zh-CN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学习和创新最重要</a:t>
            </a:r>
            <a:r>
              <a:rPr b="1" i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!</a:t>
            </a:r>
            <a:endParaRPr b="1" i="1" lang="en-US" sz="4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0" y="3049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部下素质低不是你的责任，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47920" y="5486400"/>
            <a:ext cx="7391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但是不能提高部下素质是你的责任！</a:t>
            </a:r>
            <a:endParaRPr b="1" i="1" lang="en-US" sz="3200" spc="1" strike="noStrike">
              <a:ln w="9360">
                <a:solidFill>
                  <a:srgbClr val="00ff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838080" y="2590920"/>
            <a:ext cx="69343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认真，努力，负责任！</a:t>
            </a:r>
            <a:endParaRPr b="1" i="1" lang="en-US" sz="5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80880" y="380880"/>
            <a:ext cx="7162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竞争优势归根结底是管理的优势，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00200" y="548640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而管理优势则是通过细节体现出来的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762120" y="2666880"/>
            <a:ext cx="71625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没有执行就谈不上管理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0" y="380880"/>
            <a:ext cx="7162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太棒了，这种事竟然发生在我身上，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81080" y="548640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让我又成长了不少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7200" y="2666880"/>
            <a:ext cx="72388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我是最棒的，我是最优秀的，我一定要成功！</a:t>
            </a:r>
            <a:endParaRPr b="1" i="1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04920" y="29718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我一定要</a:t>
            </a:r>
            <a:r>
              <a:rPr b="1" i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,</a:t>
            </a: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下定决心，绝不放弃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3152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未来惟一持久的优势是有能力比你的竞争对手学习得更快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in" orient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只有傻瓜或自愿把自己的企业推向悬涯峭壁的人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才会对教育置若罔闻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in" orient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75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"/>
              </a:rPr>
              <a:t>我宣誓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"/>
              </a:rPr>
              <a:t>: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"/>
              </a:rPr>
              <a:t>我是一个普通的人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"/>
              </a:rPr>
              <a:t>但不是一个平常的人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"/>
              </a:rPr>
              <a:t>因为我坚信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"/>
              </a:rPr>
              <a:t>我一定能做不平常的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"/>
              </a:rPr>
              <a:t>那就是实现我的人生目标和理想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in" orient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差错发生在细节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, 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成功取决于系统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80880" y="380880"/>
            <a:ext cx="7162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1%</a:t>
            </a: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的错误会带来</a:t>
            </a:r>
            <a:r>
              <a:rPr b="1" i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100%</a:t>
            </a: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的失败，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76520" y="5410080"/>
            <a:ext cx="71625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——</a:t>
            </a: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忽视细节的代价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0880" y="380880"/>
            <a:ext cx="6553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不仅要做大的政策，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479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更要注意点点滴滴的管理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80880" y="380880"/>
            <a:ext cx="7925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什么是不简单？把每一件简单的事做好就是不简单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95280" y="5486400"/>
            <a:ext cx="7315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什么是不平凡？把每一件平凡的事做对，就是不平凡！</a:t>
            </a:r>
            <a:endParaRPr b="1" i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380880"/>
            <a:ext cx="7162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用爱心做事业，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4479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用感恩的心做人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0" y="3049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成功者找方法，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81080" y="548640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失败者找借口！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05:15:5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29:18Z</dcterms:modified>
  <cp:revision>68</cp:revision>
  <dc:subject>主题班会课件(分28大类): http://shop62905894.taobao.com</dc:subject>
  <dc:title>主题班会课件(分28大类): http://shop62905894.taobao.com</dc:title>
</cp:coreProperties>
</file>