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3.jpeg" ContentType="image/jpeg"/>
  <Override PartName="/ppt/media/image20.jpeg" ContentType="image/jpeg"/>
  <Override PartName="/ppt/media/image26.gif" ContentType="image/gif"/>
  <Override PartName="/ppt/media/chimes.wav" ContentType="audio/x-wav"/>
  <Override PartName="/ppt/media/image36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15.png" ContentType="image/png"/>
  <Override PartName="/ppt/media/image22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12.jpeg" ContentType="image/jpeg"/>
  <Override PartName="/ppt/media/image34.png" ContentType="image/png"/>
  <Override PartName="/ppt/media/image29.gif" ContentType="image/gif"/>
  <Override PartName="/ppt/media/image31.gif" ContentType="image/gif"/>
  <Override PartName="/ppt/media/image28.gif" ContentType="image/gif"/>
  <Override PartName="/ppt/media/image30.jpeg" ContentType="image/jpeg"/>
  <Override PartName="/ppt/media/image7.jpeg" ContentType="image/jpeg"/>
  <Override PartName="/ppt/media/image11.png" ContentType="image/png"/>
  <Override PartName="/ppt/media/image9.gif" ContentType="image/gif"/>
  <Override PartName="/ppt/media/image38.gif" ContentType="image/gif"/>
  <Override PartName="/ppt/media/image8.png" ContentType="image/png"/>
  <Override PartName="/ppt/media/image39.jpeg" ContentType="image/jpeg"/>
  <Override PartName="/ppt/media/breeze.wav" ContentType="audio/x-wav"/>
  <Override PartName="/ppt/media/image4.gif" ContentType="image/gif"/>
  <Override PartName="/ppt/media/image1.jpeg" ContentType="image/jpeg"/>
  <Override PartName="/ppt/media/image35.jpeg" ContentType="image/jpeg"/>
  <Override PartName="/ppt/media/image5.png" ContentType="image/png"/>
  <Override PartName="/ppt/media/image6.jpeg" ContentType="image/jpeg"/>
  <Override PartName="/ppt/media/image25.gif" ContentType="image/gif"/>
  <Override PartName="/ppt/media/image33.gif" ContentType="image/gif"/>
  <Override PartName="/ppt/media/image3.gif" ContentType="image/gif"/>
  <Override PartName="/ppt/media/image2.png" ContentType="image/png"/>
  <Override PartName="/ppt/media/image16.gif" ContentType="image/gif"/>
  <Override PartName="/ppt/media/image21.png" ContentType="image/png"/>
  <Override PartName="/ppt/media/image27.jpeg" ContentType="image/jpeg"/>
  <Override PartName="/ppt/media/image1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106-1F64-49EF-8C6A-42D8DC0C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724-28AB-4F59-AB9D-930EDD1D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F10-070F-4FFD-8399-932C3D77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088-F81D-4DFA-9620-FB56FEC8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2D68-0B63-4582-9782-60045F47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7B17-5768-4204-A9AB-5734305D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D21B-9942-4BBF-A991-5E39F30F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E711-A372-4ECC-B77E-8569B65C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CBA8-2101-402C-9969-1E66FA0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FCA8-D3A5-4126-9132-8B54A23F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7D43-4C2E-469E-9E60-142EB57B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13E-DC52-40F1-84B4-63B3019B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445E-E492-4FD1-96DA-7C577D2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2E54-8280-473C-BB81-03434622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6663-BA17-47E9-9BC8-24B0A66C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36AD-F254-4B9D-968E-C50BA366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CF0C-0025-4D54-B0DE-AD74FC06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F42-29CB-470F-9936-596BBA2E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92A-F292-4895-8596-8CA3268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2FB-0D04-4310-AB79-9541634F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C47-1A84-4885-BF72-DF9BCD17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4B8-A82C-400E-A2F9-416F6AE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ADD-F314-44BF-90C2-4C85889D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11D-CAFE-4557-8A21-C649D1A6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6E5C-03A9-443E-AFB1-0EB1199DF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3AAC-8A42-430A-98F0-E3DDA6C13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4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gif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&#20316;&#33258;&#24049;&#24515;&#22659;&#30340;&#20027;&#20154;.ppt" TargetMode="External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752480" y="1447920"/>
            <a:ext cx="4876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厌学 乐学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58000" y="685800"/>
            <a:ext cx="1779480" cy="150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33520" y="44197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15238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蓝忻：由于父母工作较忙没时间陪他，只是从小买玩具给他玩，他也很少跟同学一起玩。其父母最近发现，蓝忻变得越来越沉默寡言，对陌生人很冷淡，家里来了客人也从不理睬只顾自己。老师也反映，他在班上不和同学交往，人缘很不好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李炀：“每当看到听到别人考试作弊时，自己心理就不平衡。当自己成绩不理想时又会埋怨老师不公平，觉得认真学习真没意思，不想再学了。而且，我们同学中还有这样的说法‘有出息的靠关系，没出息的靠分数’。学习真的没有用了吗？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小雨：重点中学的初一学生，父母都是大学教授，从小对她管教甚严，对她的学习成绩要求很高，进入重点中学后，更是以重点高中为目标。小时候的她迫于父母压力，学习一直较好。但进入青春期后，她对父母的要求开始越来越反感，经常和父母发生冲突。为了跟父母“作对”，她慢慢开始讨厌学习，上课走神、功课抄袭，导致成绩一降再降，其父母束手无策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小美：由于小时候父母离异，导致她总有一种难以言状的苦闷与抑郁，老想哭却哭不出来，即使遇到喜事也毫无开心的感觉。过去很有兴趣去看电影、听音乐，到后来也索然无味。心中有很多不快乐压抑着，不爱说话。小美深知长期忧郁苦闷会伤害身体，但苦于无法解脱，并导致睡眠不好，多恶梦，食欲不振，有时很悲观，甚至想一死了之。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00200" y="228600"/>
            <a:ext cx="5791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真情互动：智慧的火花在这里闪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8240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438280" y="838080"/>
            <a:ext cx="4114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我演我精彩</a:t>
            </a:r>
            <a:r>
              <a:rPr b="0" lang="en-US" sz="24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!</a:t>
            </a:r>
            <a:endParaRPr b="0" lang="en-US" sz="24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3623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03f9"/>
                </a:solidFill>
                <a:latin typeface="仿宋_GB2312"/>
                <a:ea typeface="仿宋_GB2312"/>
              </a:rPr>
              <a:t>这四位同学遇到了困难，我们应该怎样帮助他们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03f9"/>
                </a:solidFill>
                <a:latin typeface="Times New Roman"/>
                <a:ea typeface="仿宋_GB2312"/>
              </a:rPr>
              <a:t>你能用喜欢的方式来表达，再让同学来猜猜是什么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03f9"/>
                </a:solidFill>
                <a:latin typeface="Times New Roman"/>
                <a:ea typeface="仿宋_GB2312"/>
              </a:rPr>
              <a:t>办法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982440" cy="1089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162920" y="609480"/>
            <a:ext cx="10731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17480" y="685800"/>
            <a:ext cx="365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行楷"/>
              </a:rPr>
              <a:t>改善环境，愉悦心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行楷"/>
              </a:rPr>
              <a:t>培养兴趣，树立信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行楷"/>
              </a:rPr>
              <a:t>改变观念，接受自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行楷"/>
              </a:rPr>
              <a:t>利用体育手段促进学生心理健康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行楷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行楷"/>
              </a:rPr>
              <a:t>加强心理辅导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304812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注意转移法、情绪调节法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心理辅导法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989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1892520" cy="205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608120" cy="1441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23880" y="220968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青春期里同学们肯定还有不少的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困惑着大家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组内的同学可互相自由提问，并推选一名小组长汇报总结你们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71600" y="259092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694160" cy="1828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 rot="21259800">
            <a:off x="971280" y="1267920"/>
            <a:ext cx="54831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58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ed0f4e"/>
                    </a:gs>
                    <a:gs pos="100000">
                      <a:srgbClr val="4512ea"/>
                    </a:gs>
                  </a:gsLst>
                  <a:lin ang="5742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你的快乐是我们最大的心愿</a:t>
            </a:r>
            <a:endParaRPr b="0" lang="en-US" sz="2400" spc="1" strike="noStrike">
              <a:ln w="158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ed0f4e"/>
                  </a:gs>
                  <a:gs pos="100000">
                    <a:srgbClr val="4512ea"/>
                  </a:gs>
                </a:gsLst>
                <a:lin ang="5742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46748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7315200" y="182880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仿宋_GB2312"/>
              </a:rPr>
              <a:t>悄悄话信箱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178000" cy="2438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886200" y="228600"/>
            <a:ext cx="4952880" cy="29098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55640" y="3573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信心是力量的源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57600" y="39625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沙沙自述：因反应较慢，上课听不懂，回答时总答错，作业常做不出来。为此，常被人叽笑，于是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视上课为坐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1219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小可：父母对其期望过高，心理压力很大，造成应试恐惧。考试前、中出现心悸、胸闷头晕，有时伴有腹泻，记忆再现困难，见题脑中一片空白，无法抑制自己的紧张情绪，考下来的成绩可想而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259092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圆圆：晚上１１点多了，桌上摆满了教科书、英语词典、作业……不知道做什么好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翻这个又翻那个，写了也是写一张撕一张。后来干脆把书都推地上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825480" cy="99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05120" y="380880"/>
            <a:ext cx="1752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小品欣赏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5105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路路：记忆、理解能力差，成绩提不上去，对自己失去了自信。之后开始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借故旷课，外出闲逛，玩游戏机等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5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3880" y="2133720"/>
            <a:ext cx="708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8600" y="4437000"/>
            <a:ext cx="1433520" cy="2421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1849320" cy="1590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20695200">
            <a:off x="685800" y="380520"/>
            <a:ext cx="3546360" cy="2022480"/>
          </a:xfrm>
          <a:prstGeom prst="cloudCallout">
            <a:avLst>
              <a:gd name="adj1" fmla="val -471319"/>
              <a:gd name="adj2" fmla="val 446736"/>
            </a:avLst>
          </a:prstGeom>
          <a:gradFill rotWithShape="0">
            <a:gsLst>
              <a:gs pos="0">
                <a:srgbClr val="dfffef"/>
              </a:gs>
              <a:gs pos="50000">
                <a:srgbClr val="ffffff"/>
              </a:gs>
              <a:gs pos="100000">
                <a:srgbClr val="dfffef"/>
              </a:gs>
            </a:gsLst>
            <a:lin ang="6306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华文行楷"/>
              </a:rPr>
              <a:t>七嘴八舌</a:t>
            </a:r>
            <a:r>
              <a:rPr b="0" lang="zh-CN" sz="5400" spc="-1" strike="noStrike">
                <a:solidFill>
                  <a:srgbClr val="ed0f4e"/>
                </a:solidFill>
                <a:latin typeface="Arial"/>
                <a:ea typeface="华文行楷"/>
              </a:rPr>
              <a:t>话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华文行楷"/>
              </a:rPr>
              <a:t>小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24382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刚才的表演中你感受到剧中人物的心理都有一个什么共同点呢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6576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种心理现象，你有过吗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知道它有什么危害吗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715000" y="2743200"/>
            <a:ext cx="106668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厌学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1447920"/>
            <a:ext cx="609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方正姚体"/>
                <a:ea typeface="方正姚体"/>
              </a:rPr>
              <a:t>       </a:t>
            </a: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厌学成为一种普遍现象。</a:t>
            </a:r>
            <a:r>
              <a:rPr b="0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有厌学心理的学生，对学习持消极态度，他们厌恶学习或者不愿意主动学习，并且有这种心理的学生在中学生中占有相当高的比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  </a:t>
            </a: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厌学具有一定传染性。</a:t>
            </a:r>
            <a:r>
              <a:rPr b="0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中学生的年龄一般在</a:t>
            </a:r>
            <a:r>
              <a:rPr b="0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8</a:t>
            </a:r>
            <a:r>
              <a:rPr b="0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岁以下，自制力较差，极易受周围环境的影响。有厌学心理的学生不但自己对学习失去兴趣，还会影响到周围的其他同学，使厌学面呈扩大趋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  </a:t>
            </a:r>
            <a:r>
              <a:rPr b="1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学生的厌学，将导致教育质量滑坡，对提高我们民族的素质产生不良影响。</a:t>
            </a:r>
            <a:r>
              <a:rPr b="0" lang="zh-CN" sz="2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中学阶段是学习基础知识的关键时期，不打好基础，怎么能成长为建设国家有用之才呢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23960" y="63547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8120" y="45720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厌学危害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43800" y="457200"/>
            <a:ext cx="816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739800" cy="136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524720" y="5157720"/>
            <a:ext cx="144000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28800" y="2133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f03f9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4f03f9"/>
                </a:solidFill>
                <a:latin typeface="宋体"/>
              </a:rPr>
              <a:t>小磊曾经是一所小学的优等生，成绩在班里都是前三名。升入一个重点初中后，第一次摸底考试只考了第</a:t>
            </a:r>
            <a:r>
              <a:rPr b="1" lang="zh-CN" sz="2400" spc="-1" strike="noStrike">
                <a:solidFill>
                  <a:srgbClr val="4f03f9"/>
                </a:solidFill>
                <a:latin typeface="宋体"/>
              </a:rPr>
              <a:t>29</a:t>
            </a:r>
            <a:r>
              <a:rPr b="1" lang="zh-CN" sz="2400" spc="-1" strike="noStrike">
                <a:solidFill>
                  <a:srgbClr val="4f03f9"/>
                </a:solidFill>
                <a:latin typeface="宋体"/>
              </a:rPr>
              <a:t>名（全班</a:t>
            </a:r>
            <a:r>
              <a:rPr b="1" lang="zh-CN" sz="2400" spc="-1" strike="noStrike">
                <a:solidFill>
                  <a:srgbClr val="4f03f9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4f03f9"/>
                </a:solidFill>
                <a:latin typeface="宋体"/>
              </a:rPr>
              <a:t>个学生）。小磊很是焦虑，感到压力很大，觉得重点初中强手如林，新课程太难，自己不如别人，考试成绩也一次比一次差，成绩在中等偏下，于是慢慢产生了厌学情绪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162920" y="4800600"/>
            <a:ext cx="1224000" cy="1676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828800" y="114300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latin typeface="隶书"/>
              </a:rPr>
              <a:t>小磊的故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50000"/>
                </a:srgbClr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5280" y="16002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磊属于周围压力过大导致自卑厌学，像这样其实非常普遍，碰到高手如林也很正常，关键是要以一个正确的心态来看待这个问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首先要让小磊找到原因。告诉小磊第一次考试成绩不好，并不能说明自己不如别人，因为能够考入省重点中学，本身就已经说明他的学习和考试能力，想想过去成功的学习方法，不要给自己太大压力。把原因归于强手如林，课程太难，这样是高估了学习中的困难，低估了自己的学习能力。而要正确地认识自己，认识课程的难度，要相信自己还是原来的自己，课程也并不像自己想的那么难，只要学会合理的学习方法和科学地安排时间，经过一段时间的努力，一定会取得好成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次，为小磊设置恰当的学习目标。刚开始目标不要过高，明确为中等难度，可以近期达到。当小磊在确立目标以后，要给他鼓励，一有进步就给予表扬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09680" y="838080"/>
            <a:ext cx="39625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心理辅导老师的帮助</a:t>
            </a:r>
            <a:endParaRPr b="0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19320" y="16002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听了心理辅导老师的这段话，你领悟到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4400" y="228600"/>
            <a:ext cx="25909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畅所欲言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med">
    <p:wheel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762120" y="609480"/>
            <a:ext cx="5486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隶书"/>
              </a:rPr>
              <a:t>是我最懂你的心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隶书"/>
              </a:rPr>
              <a:t>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隶书"/>
              <a:ea typeface="隶书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819520" y="2209680"/>
            <a:ext cx="3047760" cy="2805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7" name="breez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385640" cy="1482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219320" y="28195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学校有心理辅导老师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认为老师在辅导时应该注意什么问题？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590840" cy="1752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93400" y="1143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产生厌学后，我们应该怎么办，怎样让厌学转为乐学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46840" y="1981080"/>
            <a:ext cx="21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哪些人可以帮助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1:49:5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21:30Z</dcterms:modified>
  <cp:revision>233</cp:revision>
  <dc:subject>主题班会课件(分28大类): http://shop62905894.taobao.com</dc:subject>
  <dc:title>主题班会课件(分28大类): http://shop62905894.taobao.com</dc:title>
</cp:coreProperties>
</file>