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wmf" ContentType="image/x-wmf"/>
  <Override PartName="/ppt/media/image20.jpeg" ContentType="image/jpeg"/>
  <Override PartName="/ppt/media/image10.jpeg" ContentType="image/jpeg"/>
  <Override PartName="/ppt/media/image6.gif" ContentType="image/gif"/>
  <Override PartName="/ppt/media/image11.png" ContentType="image/png"/>
  <Override PartName="/ppt/media/image5.wmf" ContentType="image/x-wmf"/>
  <Override PartName="/ppt/media/cashreg.wav" ContentType="audio/x-wav"/>
  <Override PartName="/ppt/media/laser.wav" ContentType="audio/x-wav"/>
  <Override PartName="/ppt/media/image21.jpeg" ContentType="image/jpeg"/>
  <Override PartName="/ppt/media/image19.png" ContentType="image/png"/>
  <Override PartName="/ppt/media/image12.gif" ContentType="image/gif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3.gif" ContentType="image/gif"/>
  <Override PartName="/ppt/media/image4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B94-B789-43E1-A178-BA1672D0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093-4D5B-4742-99DC-F23456C2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3CE-3313-47CD-B757-0C80E453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DA4-4469-4F48-81C2-0FB195D1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45A9-6232-42EF-9257-B253D3D9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65DB-F213-4DE6-9EEA-6A6A395A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8EE9-ECFE-4E3C-AD38-B3CE50C5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476C-086D-4085-8261-C0D4B8A3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C2B6-9FE4-4081-95FF-CA0C13CE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3F20-B76E-4994-9C6A-19EB32BF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0924-2D73-4295-A45D-F7F0ED67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E2D-DB17-49E0-BF6C-F86A13D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47E7-D557-44BD-93AC-2713298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DB03-59EB-4270-BE9D-E864060A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385C-9A35-4CF2-B473-F3136162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BBB4-705F-4D3B-81EE-BF768F36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8994-ACE3-4771-8DF9-5AF3831F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F39-B0ED-4FE4-89FB-E0CD6CF0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DC7-FB54-4CA2-8DDC-1259950A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10C-42E9-44FA-B5AF-F0B0CCF4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D4D-0EEE-4966-872B-67F60D7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F3E-178D-4BF0-B833-47FB78B8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D04-9BCE-4203-9FDC-56FCEED1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58E-354D-47DD-BBDC-D95DA8B2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70A-B04C-46B1-9DB2-CA91CBFAC34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8C36-FA46-4816-99BB-DE74B6B8D11F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920" y="0"/>
            <a:ext cx="913608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8381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十月月考总结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十月月考的胜利就是我们最大的收获，这次考试意义非常重大，是我们吃苦勤奋的回报，是我们认真努力的果实，也许能起到转折点的作用——这次考试是一次重大的分水岭。成功了，意味着你向大学之门又迈进了一步。如何打好这一仗，关键在于这几天时间的利用上，下面拟出我的奋斗计划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抓住要点，有计划复习，不盲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有规律的进行复习，不要专攻一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合理的分配自己的时间，该干什么，干什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注重基础，只有打好坚实的基础，才能拿到高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同学们，让我们一起努力吧，为了班级荣誉，为了父母微笑，为了自己的将来，我们齐心协力，誓死一战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6858000"/>
            <a:ext cx="763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成功在于坚持！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世间最容易的事是坚持，最难的事也是坚持。说它容易，是因为只要愿意做，人人能做到；说它难，是因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真正能做到的，终究只是少数人。</a:t>
            </a:r>
            <a:br>
              <a:rPr sz="4800"/>
            </a:b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28600" y="1752480"/>
            <a:ext cx="84582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愿同学们努力学习，笑对高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90160" y="685800"/>
            <a:ext cx="33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2005/09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刚入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7652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大家三年共同就读于才溪中学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,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但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90920" y="60948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现在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3960" y="1828800"/>
            <a:ext cx="311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也许你是班上的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别人是班上的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86480" y="7621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年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63160" y="2209680"/>
            <a:ext cx="379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各自奔赴不同的大学深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但是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并非人人都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78160" y="914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五年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9200" y="2057400"/>
            <a:ext cx="200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走进社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有人才华横溢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有人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13000" y="68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十五年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6400" y="167652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意气风发，事业有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1557360"/>
            <a:ext cx="7489800" cy="3095640"/>
          </a:xfrm>
          <a:prstGeom prst="cloudCallout">
            <a:avLst>
              <a:gd name="adj1" fmla="val -44236"/>
              <a:gd name="adj2" fmla="val 44972"/>
            </a:avLst>
          </a:prstGeom>
          <a:solidFill>
            <a:srgbClr val="66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220968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命运，为什么可以相差那大！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爱拼才会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7440" y="1981080"/>
            <a:ext cx="8534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一时失志不免怨叹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一时落魄不免胆寒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哪怕失去希望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每日醉茫茫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无魂有体像稻草人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人生可比是海上的波浪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有时起有时落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好运歹命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……/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三分天注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七分靠打拼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/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爱拼才会赢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6248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8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总成绩在班排前十名：</a:t>
            </a:r>
            <a:br>
              <a:rPr sz="40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林晓燕 张立文 王远平 卓仙娣 王龙生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黄兴炬 王大贝 罗雪云 赖忠华 刘文强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743200"/>
            <a:ext cx="83055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进步之星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林强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 江林发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刘建华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陈道斌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罗芳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    谢培锋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胡灵发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刘培旺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王晓斌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蓝启平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钟建顺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曾尚汉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黄文由 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罗艳芳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  梁裕林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阙丽容（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4840" y="5280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另外，还有些同学学习勤勤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恳恳，也取得了一定进步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565360"/>
            <a:ext cx="88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的进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老师和父母最大的骄傲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907920"/>
            <a:ext cx="62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拼搏的身后是老师和父母默默关注的目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42920" y="1557360"/>
            <a:ext cx="7777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r>
              <a:rPr b="1" lang="zh-CN" sz="5400" spc="-1" strike="noStrike">
                <a:solidFill>
                  <a:srgbClr val="0033cc"/>
                </a:solidFill>
                <a:latin typeface="宋体"/>
              </a:rPr>
              <a:t>既然我们选择了远方，就只顾风雨兼程！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行楷"/>
                <a:ea typeface="华文行楷"/>
              </a:rPr>
              <a:t>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cc"/>
                </a:solidFill>
                <a:latin typeface="华文行楷"/>
                <a:ea typeface="华文行楷"/>
              </a:rPr>
              <a:t>             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拼搏中难免受苦、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也要坚定信念！彩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总在风雨之后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5812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一心向着自己目标前进的人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整个世界都给他让路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        ——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爱默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每个人都有潜在的能量，只是很容易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被习惯所掩盖，被时间所迷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被惰性所消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4221000"/>
            <a:ext cx="87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行楷"/>
              </a:rPr>
              <a:t>吃得苦中苦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行楷"/>
              </a:rPr>
              <a:t>,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行楷"/>
              </a:rPr>
              <a:t>方为人上人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91800" y="1676520"/>
            <a:ext cx="3691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盖士人读书，第一要有志，第二要有识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第三要有恒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《曾国藩家书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失败者寻找借口，推卸责任；成功者承担责任，寻找方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你到底是推卸责任，还是承担责任？是寻找借口，还是寻找方法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不要后悔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后悔是一种耗费精神的情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后悔是比损失更大的损失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比错误更大的错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所以不要后悔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　　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爸爸妈妈别说再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是一个真实的故事。一个秋天，在某游览区，一辆缆车正悠闲地滑动在大山上空。缆车里的人们说说笑笑，尽情欣赏着窗外的景色，没有人能预料到接下来的厄运。因为缆车超载，在行驶到一半的时候，缆绳突然被缆绳挣断了。缆车倏地跌下了山谷，人们惊恐万分，但是没有人能拯救他们……后来缆车被发现的时候，只有一个小男孩幸存了下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原来，在缆车下落的时候，他的父母把他举起来顶到了头上。在生的最后几秒，父母用自己的身躯挽救了孩子。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26920" y="5373720"/>
            <a:ext cx="1258920" cy="104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6408720"/>
            <a:ext cx="9182160" cy="449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22431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想想我们的父母吧，他们为我们所有付出。我相信，遇到这种情况，任何一个父母都会做出这样的选择。想想我们从小到大，我们生病时父母的焦虑，我们高兴时父母的欣慰。我们为他们做的每一件小事，都会让他们好高兴。（学习进步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1258920" cy="1049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6408720"/>
            <a:ext cx="9182160" cy="44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9497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609480"/>
            <a:ext cx="89154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语文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王远平蓝启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数学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刘文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3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英语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王远平阙丽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物理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张立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9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化学——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刘文强 雷发杨 阙丽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8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单科状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球王贝利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年的足球生涯里，参加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比赛，共踢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。并创造了一个队员在一场比赛中射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球的纪录。他超凡的技艺不仅令万千观众心醉，而且常使球场上的对手拍手称绝。他不仅球艺高超，而且谈吐不凡。当他个人进球记录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时，有人问他：“您哪个球踢得最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贝利笑了，意味深长地说：“下一个。”他的回答含蓄幽默，耐人寻味，像他的球艺一样精彩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启示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迈向成功的道路上，每当实现了一个近期目标，决不应自满，而应迎接新的成功，应把原来的成功当成是新的成功的起点，千万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不能自我满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才永远有新的目标，才能攀登新的高峰，才能获得成功者的无穷无尽的乐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下一个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7572"/>
                </a:solidFill>
                <a:latin typeface="Arial"/>
              </a:rPr>
              <a:t>狮子和羚羊的家教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每天，当太阳升起的时候，非洲大草原上的动物们就开始奔跑了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狮子妈妈在教育自己的孩子，你必须跑得再快一点，再快一点，你要是跑不过最慢的羚羊，你就会活活地饿死。”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另外一个场地上，羚羊妈妈也在教育自己的孩子：“孩子，你必须跑得再快一点，再快一点，如果你不能比跑得最快的狮子还要快，那你就肯定会被他们吃掉。”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秘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记住，你跑得快，别人跑得更快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赶超对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7080" y="839520"/>
            <a:ext cx="7248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十一月工作打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847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继续加强责任心的培养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是自己的事！增强集体荣誉感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进一步端正学习态度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态度决定一切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态度就会有责任心，有责任心就会有前途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强调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各学科之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协调合作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各学科要均衡发展，千万不能偏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好精神减压工作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重视过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淡化分数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404640"/>
            <a:ext cx="2305080" cy="6426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心灵体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557360"/>
            <a:ext cx="4608360" cy="520560"/>
          </a:xfrm>
          <a:prstGeom prst="rect">
            <a:avLst/>
          </a:prstGeom>
          <a:solidFill>
            <a:srgbClr val="e1fd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看我的一天是怎么度过的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71640" y="2349360"/>
            <a:ext cx="6913440" cy="3816360"/>
            <a:chOff x="971640" y="2349360"/>
            <a:chExt cx="6913440" cy="3816360"/>
          </a:xfrm>
        </p:grpSpPr>
        <p:sp>
          <p:nvSpPr>
            <p:cNvPr id="174" name=""/>
            <p:cNvSpPr/>
            <p:nvPr/>
          </p:nvSpPr>
          <p:spPr>
            <a:xfrm>
              <a:off x="971640" y="234936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71640" y="2349360"/>
              <a:ext cx="0" cy="3816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71640" y="6165720"/>
              <a:ext cx="6913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12000" y="2349360"/>
              <a:ext cx="73080" cy="3816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71640" y="285408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71640" y="328572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1640" y="371772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71640" y="422100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472572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71640" y="522900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1640" y="5733720"/>
              <a:ext cx="684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24360" y="2349360"/>
              <a:ext cx="0" cy="3816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971640" y="2349360"/>
            <a:ext cx="6820920" cy="3844440"/>
            <a:chOff x="971640" y="2349360"/>
            <a:chExt cx="6820920" cy="3844440"/>
          </a:xfrm>
        </p:grpSpPr>
        <p:sp>
          <p:nvSpPr>
            <p:cNvPr id="187" name=""/>
            <p:cNvSpPr/>
            <p:nvPr/>
          </p:nvSpPr>
          <p:spPr>
            <a:xfrm>
              <a:off x="2536560" y="2802600"/>
              <a:ext cx="14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上课时间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36560" y="3211920"/>
              <a:ext cx="179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晚自习时间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76200" y="3738960"/>
              <a:ext cx="32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你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利用了</a:t>
              </a: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的课余时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71640" y="4250520"/>
              <a:ext cx="49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平均</a:t>
              </a:r>
              <a:r>
                <a:rPr b="1" lang="zh-CN" sz="20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每节课多少分钟后才能集中精神听课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20920" y="47534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上课时发呆时间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8920" y="5258160"/>
              <a:ext cx="36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自习课上闲聊、发呆时间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8560" y="57340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自习课上找、借东西所花时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20920" y="2349360"/>
              <a:ext cx="23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时间类别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242100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所需时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484360" y="476280"/>
            <a:ext cx="863640" cy="504720"/>
          </a:xfrm>
          <a:prstGeom prst="rightArrow">
            <a:avLst>
              <a:gd name="adj1" fmla="val 50000"/>
              <a:gd name="adj2" fmla="val 42778"/>
            </a:avLst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3348000" y="463680"/>
            <a:ext cx="5256360" cy="52056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看自己一天时间的利用率高不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5280" y="4076640"/>
            <a:ext cx="842472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天时间的利用率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＝学习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工作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时间／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小时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844640"/>
            <a:ext cx="813600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（工作）时间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＝上课时间＋自习时间＋真正利用的课余时间－发呆时间－闲聊时间－借东西时间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4000" y="981000"/>
            <a:ext cx="1944360" cy="6426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难题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1989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现在有几件事情同时摆在我们面前。某同学家里：洗衣机洗衣服要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，电饭锅煮饭需要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，看完一篇文章需要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，问做完这三件事情共需要多长时间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1763640" y="5084640"/>
            <a:ext cx="6840720" cy="5814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办法：学会统筹方法，同时做几件事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981000"/>
            <a:ext cx="1944360" cy="6426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难题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414972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高考要求掌握的英语单词数为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3500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个，照这样计算，经过多长时间可以达到这个词汇量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0560" y="5432400"/>
            <a:ext cx="6985080" cy="581400"/>
          </a:xfrm>
          <a:prstGeom prst="rect">
            <a:avLst/>
          </a:prstGeom>
          <a:solidFill>
            <a:srgbClr val="e5ee3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办法：善用零碎时间，循序渐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91628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是一个很短的时间，但是一天抓住两个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，请问：一年抓住了多少分钟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3068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每个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分钟可以记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个单词，一年可以记多少个单词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4479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3341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77724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0384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65530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50680" y="1600200"/>
            <a:ext cx="4204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想过成功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想过失败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但从未想过放弃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52578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相信自己！尽力就行！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4400" y="6094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280" y="1386000"/>
            <a:ext cx="9296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“懒筋”没拔出，不够刻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对待练习不够认真，不刻苦钻研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有严重偏科现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时间安排欠合理、科学，易受情绪影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考试前没有认真复习，不懂的问题没有及时解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考试时，太过粗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基础不够扎实，做练习太少，没能巩固好所学知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、复习不全面，只是粗略地看了一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个人摄影壁纸 - 上田久仁生作品 - 梦幻花卉6 - ml0006.jpg : 1024 * 768 68.4 K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685800" y="1676520"/>
            <a:ext cx="7705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握生命每一分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762120"/>
            <a:ext cx="8381880" cy="30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让我们一起筹划未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咬定班级与个人的十一月考目标，誓创辉煌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3860640"/>
            <a:ext cx="2695320" cy="274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十一月考复习计划与目标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总结历次考试经验和教训，分析自己薄弱学科和优势学科，计划在剩下一个星期的复习重点和策略。（每天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给自己定下新的目标（超越：同伴；分数；名次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给自己一个拼搏的理由（一句话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84680" y="551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苦战一星期，实现超越梦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12600" y="-1440"/>
            <a:ext cx="9163080" cy="68500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  <a:ea typeface="隶书"/>
              </a:rPr>
              <a:t>争分夺秒，我们有能力做得更好</a:t>
            </a:r>
            <a:endParaRPr b="0" lang="en-US" sz="5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4038480"/>
            <a:ext cx="3353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加油！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13372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高三（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4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）班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685800" y="533520"/>
            <a:ext cx="7772400" cy="28191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ccecff"/>
                </a:solidFill>
                <a:miter/>
              </a:ln>
              <a:solidFill>
                <a:srgbClr val="00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Tahoma"/>
              </a:rPr>
              <a:t>显露出的问题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7848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在这次考试后，发现很多同学的总分高不了，究其原因，偏科厉害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由于各个方面的原因，很多同学都在这些科目中出现“瘸腿”现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试卷答题过程中暴露出来的不规范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基础掌握不扎实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Tahoma"/>
              </a:rPr>
              <a:t>成绩背后的问题：</a:t>
            </a:r>
            <a:endParaRPr b="0" lang="en-US" sz="4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个别同学自以为是，上课不够专心，甚至出现开小差、睡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有些学生做练习较马虎，选择题乱猜，计算题只写一个答案；老师讲评过的练习部分学生始终没有养成及时订正的习惯，导致已做过的练习屡做屡错。到考试时遇到难题不是去思考，而是抓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晚自习的效率不高，课间之后无法迅速进入学习的状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放松学习，临考试才匆忙复习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行为懒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考试心理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219320"/>
            <a:ext cx="8686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们的不足之处在哪里呢？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09480" y="-70488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67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老师不在时，我们就像失去了一个支柱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我们就散漫起来了，包括我自己在内，晚自修寻找机会讲话诸如此类缺乏自制力的表现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　　　　　　　　　　　——来自我班某同学的心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0574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我不禁有一些悲哀。因为没有了老师的管理，班上的一部分同学纪律放松了，或多或小对认真学习的同学有些影响，有时竟在晚自习上看小说、报纸，真荒唐。还有我们宿舍还有部分同学也因缺少自制力，冒着被扣分的危险，晚上像开集会似的，声音很大，直到半夜，而第二天上课却在“钓鱼” 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　　　　　　　　　　　　——来自某同学的心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333360"/>
            <a:ext cx="79218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老师不在时，我们是这样做的：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2514600"/>
            <a:ext cx="2057400" cy="2514600"/>
          </a:xfrm>
          <a:prstGeom prst="wedgeEllipseCallout">
            <a:avLst>
              <a:gd name="adj1" fmla="val -32407"/>
              <a:gd name="adj2" fmla="val 6212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990800" cy="236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00000" y="30718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我终于发现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我们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不足之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2057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一、学习缺乏自觉性和自律性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895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二、学习不够勤奋；做表面文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733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三、学习有畏难情绪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四、学习中不敢请教老师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五、没有合理安排时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791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六、学习缺乏钻研，易于满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49:43Z</dcterms:modified>
  <cp:revision>103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