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gif" ContentType="image/gif"/>
  <Override PartName="/ppt/media/image4.gif" ContentType="image/gif"/>
  <Override PartName="/ppt/media/image6.jpeg" ContentType="image/jpeg"/>
  <Override PartName="/ppt/media/image5.jpeg" ContentType="image/jpeg"/>
  <Override PartName="/ppt/media/image7.jpeg" ContentType="image/jpeg"/>
  <Override PartName="/ppt/media/image8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BAF5-8F04-403A-960D-BBF19A465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A8D2-143C-4C2D-BA70-BD3765491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312A-724D-4766-BE1E-9DEB3A3D2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7CC9-F869-4164-B573-7871EBF44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1EF3-F553-4F4B-826F-9C3B1AB4E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B323-3688-43DB-94D4-BDD49E048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7D13-62B6-459C-8339-633FBBF9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0DB8-5D72-4CBC-A82A-1A7D458D7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337A-D7D3-4BE5-AE57-71B5EA27A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E5CE-A744-40FA-80F0-067BB7D9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1481-61F3-4EFA-B78B-0BD7D243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9503-094E-4E78-B65C-F6892A84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9B3B8-6D49-4922-939F-FEF0D770C0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 rot="1405800">
            <a:off x="3780000" y="1196640"/>
            <a:ext cx="1549080" cy="17082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458800" y="3357720"/>
            <a:ext cx="420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ff"/>
                </a:solidFill>
                <a:latin typeface="Arial"/>
                <a:ea typeface="方正大标宋简体"/>
              </a:rPr>
              <a:t>利用有效时间提高复习效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4875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042920" y="54936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仔细制定一个考前复习计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963720"/>
            <a:ext cx="861048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每到这时，有些同学就感到焦头烂额，不知道该怎么复习、复习哪门科好。我提醒你首先要制定一个临考复习计划，有了这个计划，后期复习任务的完成，才有了具体的时间和空间，也就可以结束忙乱无序的紧张心态，使你的心情平静下来。如果复习没计划，西打一捶，东打一棒，肯定事倍功半。在安排计划时，要考虑以下几个问题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每科老师都有计划，老师经历过很多次考试，肯定比你有经验，要参照老师的计划安排，结合自身情况制订一个既与老师计划一致又符合自己实际的计划来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计划时要把时间划分好。临考前的时间大致分为两部分：一部分归教师支配，一部分归自己支配。在跟着老师复习的时间内一定要力争学会，把它看成是考前的“最后一次”见面，不要再寄希望于以后自己再找时间复习，因为事实上已没有这个“时间”了。在自己支配的学习时间内，要认真安排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3520" y="685800"/>
            <a:ext cx="8431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安排学习任务时，要轻重缓急得当。学习时间十分有限，要在这有限的时间内分清“重和急”、“轻和缓”。“重和急”指的是自己尚未复习或只要投入时间就可以掌握的重点内容和学科，对这部分要重点“扫荡”。“轻和缓”指的是非重点，难度小，占分不多的部分，也可以是自己掌握得比较好的部分，或者，虽然重要但在短时间内已无法掌握的内容，这部分少用时间，敢于大胆舍弃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临考前，时间也许是最让你焦虑不安的了，总希望能多一天时间复习，但时间是根本无法延伸的。解决的途径只有一个，即克服拖沓现象，提高时间的利用率。 复习前要明确复习的任务，确定完成任务的最后期限，做到“日事日毕，日清日高”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0" y="53352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讲究复习方法，提高复习效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何讲究复习方法，在复习中要突出“四要”和“三练”。“四要”就是：第一，对面知识和概念的来龙去脉要搞清楚。既要注重结果，更要注重过程，以能力立意的试题往往是知识和概念的迁移，只有把过程搞清楚，才能在知识迁移中融会贯通，举一反三。第二，对知识和概念的易混点也就是难点要归纳类比。即要辩别易混点的区别与内在联系，建议同学们尽量找出自己的疑难问题，记录在册，及时找老师和同学解决。第三，对知识和概念的重要问题也就是主干知识要构建学科知识体系。即要归纳总结，经常对知识进行疏理，使学科知识结构网络逐步清晰。第四，对知识和概念的运用要依据学科思维方式去思考和分析，掌握学科的思维方式和思想方法，考试答题规范有序，避免不合符规范而扣分，该得的分没有得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-360" y="13716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练”就是：一练“审题”与“破题”的方法。要善于在以能力立意的问题中捕捉隐含条件，找到解决问题的关健。二练“开放性”与“多角度”的思维方法，一个问题要善于从多角度多侧面去分析，使知识“迁移”和“再生”。三练“经典题例”，课本上或课堂上老师讲到的典型题例往往是经典的题目，是重难点的剖析，应特别注意分析的思路和方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80880" y="2363760"/>
            <a:ext cx="8458200" cy="1739880"/>
          </a:xfrm>
          <a:prstGeom prst="rect">
            <a:avLst/>
          </a:prstGeom>
          <a:solidFill>
            <a:srgbClr val="feff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积极主动乐观迎接总复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学期的期末考试已悄然临近，大家都已经进入到紧张的复习阶段。复习不单是机械的重复，更应包含着对知识的理解和运用。如何有效利用时间？如何提高复习效率？我根据自己的做法说一点亲身体会，供同学们参考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-360" y="259920"/>
            <a:ext cx="883908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3200" spc="-1" strike="noStrike">
                <a:solidFill>
                  <a:srgbClr val="cc0000"/>
                </a:solidFill>
                <a:latin typeface="新宋体"/>
                <a:ea typeface="新宋体"/>
              </a:rPr>
              <a:t>1</a:t>
            </a:r>
            <a:r>
              <a:rPr b="1" lang="zh-CN" sz="3200" spc="-1" strike="noStrike">
                <a:solidFill>
                  <a:srgbClr val="cc0000"/>
                </a:solidFill>
                <a:latin typeface="新宋体"/>
                <a:ea typeface="新宋体"/>
              </a:rPr>
              <a:t>、在复习阶段一定要注意各科时间上的合理分配，要齐头并进。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一花独秀不是春，百花齐放春满园。各科要均衡发展，每门功课都要复习到位，不能对优势学科掉以轻心，也不能对薄弱学科失去信心。只是不同层次的功课，对你要求各不相同，复习的目标和策略做到相应变化。</a:t>
            </a:r>
            <a:br>
              <a:rPr sz="3200"/>
            </a:br>
            <a:r>
              <a:rPr b="1" lang="zh-CN" sz="3200" spc="-1" strike="noStrike">
                <a:solidFill>
                  <a:srgbClr val="cc0000"/>
                </a:solidFill>
                <a:latin typeface="新宋体"/>
                <a:ea typeface="新宋体"/>
              </a:rPr>
              <a:t>2</a:t>
            </a:r>
            <a:r>
              <a:rPr b="1" lang="zh-CN" sz="3200" spc="-1" strike="noStrike">
                <a:solidFill>
                  <a:srgbClr val="cc0000"/>
                </a:solidFill>
                <a:latin typeface="新宋体"/>
                <a:ea typeface="新宋体"/>
              </a:rPr>
              <a:t>、效率第一，适可而止。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效率是成功的关键，追求一定时间内的效率是学习的目标，尤其是课堂效率，课堂是学习的主战场，效率是学习的主线。能一节课完成的任务，决不拖到下一节。能一分钟做完的事决不用两分钟。但劳累决不能过度，决不能学到自己头疼时还学。只要是学到感觉要疼，脑子要管了，就要大胆休息，或变换学习科目及方式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新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40000" y="1989000"/>
            <a:ext cx="568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0" y="838080"/>
            <a:ext cx="9144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互帮互学，共同受益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学习是一个自我完善的过程，也应是一种集体协作的过程。所谓水涨船高，个人成绩的取得，实际上是集体共同进步的结果。好问能使人受益匪浅，多向老师请教，多与同学交流，整天把自己局限于个人狭小的思维空间上，得不偿失。多鼓励同学，鼓舞别人的过程自己也受到了鼓励。高兴了，与同学共享，一个人的快乐变成两个人的快乐；痛苦了，与朋友说说，两个人承担一个痛苦要轻松得多。 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83664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任何单一的活动持续时间过长，都会引起人的厌倦疲劳，注意力分散，从而降低学习效率。所以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要不断变化学习内容和学习方式，避免单科独进，方法单一，使各科内容的交替进行，耳眼口手脑并用，听说读写算并进，学习方式多样化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换新的方式学习新的内容时，对原有的学习来说实质上就是一种休息，这样高效地利用时间，可以更快更好地获取知识。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心静如水，别浮躁，贵在坚持。要立志把凳子坐穿。我要说，谁坐到最后，谁就会胜利，谁坚持到最后，谁就会成功。快到考试了，连凳子都坐不住，还想得高分？要有任外边翻江蹈海，我自岿然不动的气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-360" y="304560"/>
            <a:ext cx="93726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集中精力，心无旁骛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都学过荀子的《劝学》，其中说到：“蚓无爪牙之利，筋骨之强，上食埃土，下饮黄泉，用心一也。”这里讲的就是学习要专心致志的道理。考前时间不很多了，别在计较那些小事，别把心思用在学习之外的事情上，生气、打架、谈恋爱，都没时间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同学们，考试不难，关键在技巧，技巧不多，关键把握好，发挥技巧，心态更重要，心态好就必须吃好、睡好、玩好、信心好、心情好。当前到了最关键的时刻，一切都在显示我们已进入到考前备战状态。关键的时刻每个同学都要相信自己，顶得住，站得稳，按照学校部署，稳扎稳打，用实际行动去争取本来属于自己的成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9770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228600"/>
            <a:ext cx="5029200" cy="3200400"/>
          </a:xfrm>
          <a:prstGeom prst="cloudCallout">
            <a:avLst>
              <a:gd name="adj1" fmla="val 45800"/>
              <a:gd name="adj2" fmla="val 511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692280"/>
            <a:ext cx="4419720" cy="3504960"/>
          </a:xfrm>
          <a:prstGeom prst="cloudCallout">
            <a:avLst>
              <a:gd name="adj1" fmla="val 67203"/>
              <a:gd name="adj2" fmla="val -937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华文行楷"/>
                <a:ea typeface="华文行楷"/>
              </a:rPr>
              <a:t>同学们：成功在向我们招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华文行楷"/>
                <a:ea typeface="华文行楷"/>
              </a:rPr>
              <a:t>加油啊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09680" y="345456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如何有效利用时间，提高复习效率。是这段时间里同学们议论的重点话题。我觉得期末复习质量的好坏，关系到整个学期学生所学知识的掌握情况，同时也会影响今后学生的学习。这是学生学习过程中的一个重要环节。因此，认真、全面的搞好期末综合复习，意义非常重大。我是这么做的。首先，大体制订一个复习计划。以便在有限的时间内复习好全部内容。其次，精心设计复习的重难点。这是复习的关键。最后，做到因材施教。要充分顾及到各个层次的学生，让所有学生通过复习都能有所进步。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191120" y="609480"/>
            <a:ext cx="3124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楷体_GB2312"/>
              </a:rPr>
              <a:t>很重要哦！</a:t>
            </a:r>
            <a:endParaRPr b="1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1523880" cy="28954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61657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84360" y="907920"/>
            <a:ext cx="7885080" cy="52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ff00"/>
                </a:solidFill>
                <a:latin typeface="华文隶书"/>
                <a:ea typeface="华文隶书"/>
              </a:rPr>
              <a:t>我们最棒    自信向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ff00"/>
                </a:solidFill>
                <a:latin typeface="华文隶书"/>
                <a:ea typeface="华文隶书"/>
              </a:rPr>
              <a:t> </a:t>
            </a:r>
            <a:r>
              <a:rPr b="1" i="1" lang="zh-CN" sz="6000" spc="-1" strike="noStrike">
                <a:solidFill>
                  <a:srgbClr val="ffff00"/>
                </a:solidFill>
                <a:latin typeface="华文隶书"/>
                <a:ea typeface="华文隶书"/>
              </a:rPr>
              <a:t>团结自强   共创辉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00000" y="62064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Arial"/>
                <a:ea typeface="华文行楷"/>
              </a:rPr>
              <a:t>你是否知道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4365720"/>
            <a:ext cx="76471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新宋体"/>
                <a:ea typeface="新宋体"/>
              </a:rPr>
              <a:t>你的进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新宋体"/>
                <a:ea typeface="新宋体"/>
              </a:rPr>
              <a:t>        </a:t>
            </a:r>
            <a:r>
              <a:rPr b="1" lang="zh-CN" sz="3600" spc="-1" strike="noStrike">
                <a:solidFill>
                  <a:srgbClr val="ff3300"/>
                </a:solidFill>
                <a:latin typeface="新宋体"/>
                <a:ea typeface="新宋体"/>
              </a:rPr>
              <a:t>是家长和老师最大的骄傲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79640" y="2060640"/>
            <a:ext cx="54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你拼搏的身后是老师们默默关注的目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7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60483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916360" y="836640"/>
            <a:ext cx="532764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是雄鹰就要搏击长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是骏马就要驰骋千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685800" y="1371600"/>
          <a:ext cx="8091360" cy="3747960"/>
        </p:xfrm>
        <a:graphic>
          <a:graphicData uri="http://schemas.openxmlformats.org/drawingml/2006/table">
            <a:tbl>
              <a:tblPr/>
              <a:tblGrid>
                <a:gridCol w="7875360"/>
                <a:gridCol w="216000"/>
              </a:tblGrid>
              <a:tr h="37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我相信：只要我们积极主动、乐观迎接、全力以赴，就能取得更好的成绩，向家长、老师交出一份满意的答卷！让我们为了“明天的精彩”而振臂高喊：为我加油！我能成功！</a:t>
                      </a:r>
                      <a:r>
                        <a:rPr b="1" lang="zh-CN" sz="4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-1440" y="2492280"/>
            <a:ext cx="7920" cy="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62120" y="762120"/>
            <a:ext cx="7543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33399"/>
                </a:solidFill>
                <a:latin typeface="Arial"/>
                <a:ea typeface="幼圆"/>
              </a:rPr>
              <a:t>祝各位同学取得优异成绩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895480" y="3886200"/>
            <a:ext cx="2286000" cy="2590920"/>
          </a:xfrm>
          <a:prstGeom prst="rect">
            <a:avLst/>
          </a:prstGeom>
          <a:ln w="0">
            <a:noFill/>
          </a:ln>
        </p:spPr>
      </p:pic>
    </p:spTree>
  </p:cSld>
  <p:transition advTm="0">
    <p:wheel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500" autoRev="1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305" dur="500" autoRev="1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306" dur="500" autoRev="1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10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26920" y="1809720"/>
            <a:ext cx="6858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看不见，摸不着，没有脚，却能跑，只见匆忙过，不见奔回头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....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307152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世界上有一样东西，它是最长又最短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最广又被分割，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最伟大而又最渺小，最珍贵而又最被人忽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当它快到极限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们才发现它的重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请问，这究竟是什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5310360"/>
            <a:ext cx="73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世界上有一个奇怪的银行，它给每个人都开了个账户，每天都往大家的账户上存入同样数目的资金，令你当天用完，不准把余额记账。不准预支和超支。如果用不完第二天就自行作废。请问，这个银行每天给我们存入的到底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47920" y="6858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猜谜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 flipH="1">
            <a:off x="325800" y="1523880"/>
            <a:ext cx="2191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底谜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00400" y="2743200"/>
            <a:ext cx="1676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时间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410080" y="838080"/>
            <a:ext cx="3124440" cy="41148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914400" y="2209680"/>
            <a:ext cx="72388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800000"/>
                </a:solidFill>
                <a:latin typeface="宋体"/>
              </a:rPr>
              <a:t>你是如何利用时间的？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800000"/>
              </a:solidFill>
              <a:latin typeface="宋体"/>
              <a:ea typeface="宋体"/>
            </a:endParaRPr>
          </a:p>
        </p:txBody>
      </p:sp>
    </p:spTree>
  </p:cSld>
  <p:transition>
    <p:cover dir="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685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有效利用复习时间</a:t>
            </a:r>
            <a:br>
              <a:rPr sz="2400"/>
            </a:b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恩格斯说：“没有计划的学习简直就是荒唐。”学习好与差的一个重要区别就在于有无计划。有适用的复习计划，能统筹兼顾地安排好各科学习，这就是学习优良者的共同点。有的同学认为，学校和老师自然会为大家安排复习计划，用不着自己在费事，跟着老师走、按着学校的要求办就可以了。这种想法不对。学校和老师的计划主要是从教的角度，针对全体同学订的，除了遵照执行以外，还应针对自己的情况，从学的角度更具体地制订出个人的复习计划。两方面互相照应配合，才能收到更好的复习效果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6868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有了复习计划，就要有效地利用时间。离期末考试只有一周多一点的时间了，时间对于我们来说相当重要，所以我们要以迎接期末考试的复习为重心。那么怎样才能在有限的时间内做更多的事情？我认为：（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）依靠学习技能，可以提高学习效率，这样就能完成更多的任务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）充分利用往往被浪费或认为无足轻重的小块时间，这样就能获得比别人更多的时间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）通过自我控制，养成好习惯，改掉坏习惯。平时，同学们浪费时间的现象非常普遍。如：聊天、没有节制地玩、无目的的东张西望、无目的的看与学习无关的书、为崇拜的人分散精力、看或写不必要的东西等等。 </a:t>
            </a:r>
            <a:br>
              <a:rPr sz="2600"/>
            </a:b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期末考试近在眼前，要求同学们一切以复习迎考为中心，把必须要做的事情和可做可不做的事情清楚地分开，安排一个切实可行的复习计划并且利用好复习时间，真正钻进去，发扬埋头苦干的精神。当然，我们还要注意休息，劳逸结合，均衡进餐，保持充沛的精力，以最佳的应试状态迎接期末考试。</a:t>
            </a:r>
            <a:br>
              <a:rPr sz="2600"/>
            </a:b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09480" y="2286000"/>
            <a:ext cx="739152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800080"/>
                </a:solidFill>
                <a:latin typeface="宋体"/>
              </a:rPr>
              <a:t>你是如何提高自己的学习效率的？</a:t>
            </a:r>
            <a:endParaRPr b="0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800080"/>
              </a:solidFill>
              <a:latin typeface="宋体"/>
              <a:ea typeface="宋体"/>
            </a:endParaRPr>
          </a:p>
        </p:txBody>
      </p:sp>
    </p:spTree>
  </p:cSld>
  <p:transition>
    <p:cover dir="ld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09480" y="838080"/>
            <a:ext cx="7417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的同学在学习的时候，一点主动权都没有，有的甚至把学习看作是一种负担，感到苦恼，觉得厌烦。但有的同学就不是这样，他们在学习中，结合自己的生活方式妥善安排时间，合理利用时间，并且时刻注意运用科学的学习方法，运用自己的聪明智慧去寻求最好的效果。他们就象游泳运动员，在知识的海洋里从容自如地畅游，完全获得了主动，成为了学习的主人。针对这些现象，结合期末迎考，我想提几点要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11:07:44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2:35:21Z</dcterms:modified>
  <cp:revision>7</cp:revision>
  <dc:subject>主题班会课件(分28大类): http://shop62905894.taobao.com</dc:subject>
  <dc:title>主题班会课件(分28大类): http://shop62905894.taobao.com</dc:title>
</cp:coreProperties>
</file>