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gif" ContentType="image/gif"/>
  <Override PartName="/ppt/media/image8.gif" ContentType="image/gif"/>
  <Override PartName="/ppt/media/image18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B9F-D2BB-434D-9085-C658B3EB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D3E-EF31-40BE-86B6-DAE30B64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09D-2EF5-4DDE-AAF5-1E7E4BB2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A7E-2A41-45A0-80C6-0CA594BE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93C-F923-4604-95A4-F714A10A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8AB-435F-4D19-9105-105B6C5F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EE4-7FFF-4007-83EE-B5267CA2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CED-9A02-461C-ADF9-B1AD2DFF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655-5D84-42AE-A1A8-E353A27D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66D-548C-4148-9695-4A511F43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153-BF8A-48EA-8981-F65221F4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FCA-73C2-4963-8C35-24785B2A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4549-1D09-4B85-B960-AFBA365BCE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1413000"/>
            <a:ext cx="6480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PMingLiU"/>
              </a:rPr>
              <a:t>做学习的主人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PMingLiU"/>
              <a:ea typeface="PMingLiU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356000" y="5734080"/>
            <a:ext cx="4114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--</a:t>
            </a: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高二（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6</a:t>
            </a: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）班 严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920" y="501336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256536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根据学习要求和自己的实际情况，列出切实的计划。目标太高容易丧失信心；太低了，达不到学习的目标。我们学习就是要坚持走自己的路，不能见异思迁，看到别人学什么，自己也赶紧去学，别人去玩自己也坐不住了，这样岂不又成了“奴隶”？应该把握自己，坚持自己路子，而不能随波逐起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24000" y="458100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要知道兴趣是学习的动力，只有体验到学习的乐趣的同学，才能成长学习主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24000" y="0"/>
            <a:ext cx="4969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对学习有兴趣</a:t>
            </a:r>
            <a:endParaRPr b="1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4436640"/>
            <a:ext cx="822960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要做学习的主人，光有在课堂上专心听讲，还只是被动的学习，保有善于思考，多问几个为什么的人，才能成长学习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411280" y="0"/>
            <a:ext cx="4753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3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善于思考问题</a:t>
            </a:r>
            <a:endParaRPr b="1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3473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现代社会呼唤创新意识，而创新意思不仅要求我能能听取别人的意见，更要敢于发表自己的见解，大声地亮出你的意见</a:t>
            </a: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24000" y="0"/>
            <a:ext cx="4897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勇于发表意见</a:t>
            </a:r>
            <a:endParaRPr b="1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36604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现代社会呼唤探究意识，探究是什么，要知道提出一个问题往往比解答一个问题更有意义，更有价值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56000" y="189000"/>
            <a:ext cx="4464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敢于提出问题</a:t>
            </a:r>
            <a:endParaRPr b="1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4365720"/>
            <a:ext cx="82296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合作意识也是现代社会对人的基本要求，只有依靠集体力量，在竞争与合作中成长的人，才能有所出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00720" y="260280"/>
            <a:ext cx="439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能与同学合作</a:t>
            </a:r>
            <a:endParaRPr b="1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学习是一项综合的脑力劳动，既然是劳动，就不可能没有辛劳，没有付出。做学习的主人，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就是要在学习过程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中不断磨练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自己克服困难，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增强自己抗挫折的能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50920" y="404640"/>
            <a:ext cx="4537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3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有克服困难的意志</a:t>
            </a:r>
            <a:endParaRPr b="1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236000" y="6165720"/>
            <a:ext cx="20462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.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32000" y="3357720"/>
            <a:ext cx="6913440" cy="520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095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谢谢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148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149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340">
                                      <p:cBhvr>
                                        <p:cTn id="1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340">
                                      <p:cBhvr>
                                        <p:cTn id="1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920" y="260280"/>
            <a:ext cx="26654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做学习的主人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32000" y="1270080"/>
            <a:ext cx="676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6600"/>
                  </a:solidFill>
                  <a:prstDash val="sysDot"/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学生中一部分是学习的主人</a:t>
            </a:r>
            <a:endParaRPr b="1" lang="en-US" sz="1800" spc="-1" strike="noStrike">
              <a:ln w="9360">
                <a:solidFill>
                  <a:srgbClr val="006600"/>
                </a:solidFill>
                <a:prstDash val="sysDot"/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19280" y="4221000"/>
            <a:ext cx="5834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6600"/>
                  </a:solidFill>
                  <a:prstDash val="sysDot"/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一部分是学习的奴隶</a:t>
            </a:r>
            <a:endParaRPr b="1" lang="en-US" sz="1800" spc="-1" strike="noStrike">
              <a:ln w="9360">
                <a:solidFill>
                  <a:srgbClr val="006600"/>
                </a:solidFill>
                <a:prstDash val="sysDot"/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561440" y="6335640"/>
            <a:ext cx="158256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.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99"/>
                </a:solidFill>
                <a:latin typeface="Arial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164360" y="4508640"/>
            <a:ext cx="1784520" cy="1695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0" y="1844640"/>
            <a:ext cx="91454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小猪和猪爸爸是怎么做人的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260280"/>
            <a:ext cx="2592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做学习的主人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4920" y="5157720"/>
            <a:ext cx="1657440" cy="1658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0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0" lang="zh-CN" sz="1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父亲欲对一对孪生兄弟作“性格改造”，因为其中一个过分乐观，而另一个则过分悲观。一天，他买了许多色泽鲜艳的新玩具给悲观孩子，又把乐观孩子送进了一间堆满马粪的车房里。第二天清晨，父亲看到悲观孩子正泣不成声，便问：“为什么不玩那些玩具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“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玩了就会坏的。”孩子仍在哭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父亲叹了口气，走进车房，却发现那乐观孩子正兴高采烈地在马粪里掏着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“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告诉你，爸爸。”那孩子得意洋洋地向父亲宣称，“我想马粪堆里一定还藏着一匹小马呢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学习主人的学生主要表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学习目的明确，有的理想还比较远大，学习积极性、主动性强。知识每天每月学哪些内容，都能选择适合于自己的学习方法，听课注意力好，自习效率较高。课余时间也有计划内的实事可做。这些学生和老师合作很好，但从来不抄袭，学习成绩好。学习对他们来说是一种内心深处的需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是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种乐趣，是一种享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学习奴隶的学生主要表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为避免父母的指责或老师的批评而学习。他们缺少或没有学习的积极性、主动性，父母或教师推一推，他们动一动。有时他们想学习，可又不知从何学起，用什么方法学。上课时常为不能集中注意力而苦恼，自习或无事做，或明知有事却尽可能拖拉，作业得过且过。课外时间就更没自控能力，他们喜欢依赖老师，可老师让他们做的事他们又常常拖拉甚至不做。他们没有良好的学习习惯，心血来潮时也能学一阵子，但很快就会冷下来。他们常把考试分数作为学习的终极目的，而考试分数又不高，学习成了他们的负担，成了包袱，成为一种痛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  <a:ea typeface="黑体"/>
              </a:rPr>
              <a:t>那么怎样才能成为学习的主人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首先要有明确的学习目的，做自己的主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其次要有积极的学习态度，要变被动学习为主动学习，克服畏难情绪，做情绪的主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再次要有明确的学习计划，做时间的主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 rot="120000">
            <a:off x="7885080" y="6092640"/>
            <a:ext cx="173844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.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1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期大林有一句名言：“伟大的毅力产生于伟大的目标。”只有目的明确了，才能自觉地坚持不懈地去学习。反之，不知道为什么而学习，就会把学习当成负担，好像被人逼似的，不得不去学习，这实际上就是奴隶式学习的思想根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6560" y="47736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有人说，兴趣是最好的老师。主动学习，就是努力地培养自己的学习兴趣。有了兴趣，学习就成了主动的事了。有了兴趣，你就会在课前主动预习，了解自己会与不会的东西；在上课时能集中听讲，大胆发言；在课后能阅读有关资料，主动地去学习。有了兴趣，在学习的过程中就能坚持独立思考，不断设疑，不断解疑，使自己知识和能力得到增强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20:54:0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cp:lastPrinted>1899-12-30T00:00:00Z</cp:lastPrinted>
  <dcterms:modified xsi:type="dcterms:W3CDTF">2013-04-13T23:03:03Z</dcterms:modified>
  <cp:revision>10</cp:revision>
  <dc:subject>主题班会课件(分28大类): http://shop62905894.taobao.com</dc:subject>
  <dc:title>主题班会课件(分28大类): http://shop62905894.taobao.com</dc:title>
</cp:coreProperties>
</file>