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13E-1246-455D-87BE-800B154F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93E-CA71-4699-A7A2-E31A911B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560-7DC6-42DA-B402-7188627C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020-C9CD-43C2-99C1-79E9DD32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C83A-F575-45B3-8FAA-43B53CE5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A935-7AE4-42E0-B329-5DB437BD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54E-E851-4B03-9265-E7C1AF07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F0F7-9571-494A-9E89-F4F331EE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4435-01C2-4889-AB24-77CF78E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91A1-8713-49C3-A7DD-218ACC73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A10-A64A-4C90-B363-99B71C4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547-F848-4C5D-A2D9-16315891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C48-7B14-4670-A17A-22C6D88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D3A5-E6F5-40F6-ABD3-AA9D5D1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3D84-1F5D-4883-B125-976D6F3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7BEA-A46B-4B4C-B1D5-094AF2F7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D5E1-1A48-48C5-96C4-AE874B18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D11-F69E-4E04-9BD2-0FAC1ABA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906-91AB-4D99-8DA9-7E4259C4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6AA-E72E-4CA6-8E55-B4EFA3F6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DB7-F7C2-4423-A4C1-2A89A7B8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394-5A0A-45E3-8E9B-A23BC455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30B-13A4-40B9-B101-1A53BE62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F01-AE45-4D81-8EEF-D25DD91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52E7-F79F-4E1C-94A3-254D3C0B603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2570-6B77-426E-8CA6-16C7555C980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Local%20Settings/Temp/Rar$DI01.234/&#22823;&#23398;.exe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zy.cn//travel_photo/c8f/51140.html" TargetMode="External"/><Relationship Id="rId2" Type="http://schemas.openxmlformats.org/officeDocument/2006/relationships/hyperlink" Target="http://www.izy.cn//travel_guide/302/0_0_4839_1_0_0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Rar$DI01.234/&#25112;&#32988;&#33258;&#24049;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5545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我们的明天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151920"/>
            <a:ext cx="8381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中午多留半小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陕西郭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我每天中午多留半个小时学习。因为这个时候比较安静，气氛也很好，很适合加强记忆，这段时间很适合用来整理、记忆一上午学习的知识，尤其是一些琐碎的东西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高三很少“开夜车”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　出场人物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常州陈世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能取得好成绩最主要的原因是：我养成了一个良好的学习习惯。即使是在高三两个学期，我晚上睡觉的时间也都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到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半左右，很少“开夜车”。“这可能得益于从小爸妈对我的严格要求，那就是当天的功课当天消化掉，做到每天都有收获，每天把知识点都巩固一下、掌握好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要掌握灵活的方法，将知识点联系起来思考，其实这是一件很有意思的事情，掌握了这些方法，学习起来很轻松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51920"/>
            <a:ext cx="8458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小时候成绩不突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徐州刘辉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“精神抖擞地学习，快快乐乐地玩”是我的学习准则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我小时候成绩并不怎么突出，直到上初二下半学期时，才对学习产生了兴趣，之后便集中精力投入到学习中，但不是死学，而是精神抖擞地学习，以此来提高学习效率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高分要有好心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出场人物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庆李田园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我的经验是，善于总结，重视基础知识的积累。特别是最后的复习要回归到教材，熟悉公式定理，整理一条把知识串起来的线索，然后找到规律和其中的区别，重点记忆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做错了题要思考，高三时我准备了一个本子，专门收集做错的题。考高分要有好心情，考前紧张很正常，其实这种紧张缘于你是否自信，还有如何对待考试成绩。平时没有努力，再紧张也没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我与我们班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我剖析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给我们班造 成的一些不好影响，我们该怎么样弥补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发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的言行，为班级争光添彩，值得表扬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5472000" cy="28004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立足现实</a:t>
            </a: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放眼未来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1360" y="2732040"/>
            <a:ext cx="8801280" cy="1387440"/>
            <a:chOff x="171360" y="2732040"/>
            <a:chExt cx="8801280" cy="1387440"/>
          </a:xfrm>
        </p:grpSpPr>
        <p:sp>
          <p:nvSpPr>
            <p:cNvPr id="121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1360" y="2738520"/>
            <a:ext cx="8801280" cy="1371600"/>
            <a:chOff x="171360" y="2738520"/>
            <a:chExt cx="8801280" cy="1371600"/>
          </a:xfrm>
        </p:grpSpPr>
        <p:sp>
          <p:nvSpPr>
            <p:cNvPr id="127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" descr="清华校徽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4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Arial Black"/>
              </a:rPr>
              <a:t>大家一起谈</a:t>
            </a:r>
            <a:endParaRPr b="1" lang="en-US" sz="10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14760" y="3429000"/>
            <a:ext cx="46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半期交流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35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7" name="" descr="中国人民大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39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1143000" y="3009960"/>
            <a:ext cx="11430000" cy="838080"/>
            <a:chOff x="-1143000" y="3009960"/>
            <a:chExt cx="11430000" cy="838080"/>
          </a:xfrm>
        </p:grpSpPr>
        <p:sp>
          <p:nvSpPr>
            <p:cNvPr id="143" name=""/>
            <p:cNvSpPr/>
            <p:nvPr/>
          </p:nvSpPr>
          <p:spPr>
            <a:xfrm>
              <a:off x="-1143000" y="3009960"/>
              <a:ext cx="1143000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936720" y="3009960"/>
              <a:ext cx="1122372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宋体"/>
                  <a:hlinkClick r:id="rId1"/>
                </a:rPr>
                <a:t>  </a:t>
              </a:r>
              <a:r>
                <a:rPr b="1" lang="zh-CN" sz="4900" spc="-1" strike="noStrike">
                  <a:solidFill>
                    <a:srgbClr val="40bc6e"/>
                  </a:solidFill>
                  <a:latin typeface="宋体"/>
                </a:rPr>
                <a:t> </a:t>
              </a:r>
              <a:r>
                <a:rPr b="1" lang="zh-CN" sz="900" spc="-1" strike="noStrike">
                  <a:solidFill>
                    <a:srgbClr val="40bc6e"/>
                  </a:solidFill>
                  <a:latin typeface="宋体"/>
                </a:rPr>
                <a:t>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-2894040" y="468360"/>
            <a:ext cx="14932080" cy="5730840"/>
            <a:chOff x="-2894040" y="468360"/>
            <a:chExt cx="14932080" cy="5730840"/>
          </a:xfrm>
        </p:grpSpPr>
        <p:sp>
          <p:nvSpPr>
            <p:cNvPr id="146" name=""/>
            <p:cNvSpPr/>
            <p:nvPr/>
          </p:nvSpPr>
          <p:spPr>
            <a:xfrm>
              <a:off x="-2894040" y="468360"/>
              <a:ext cx="883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2894040" y="468360"/>
              <a:ext cx="14932080" cy="57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37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" descr="南京大学校园风光"/>
          <p:cNvPicPr/>
          <p:nvPr/>
        </p:nvPicPr>
        <p:blipFill>
          <a:blip r:embed="rId3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06320"/>
            <a:ext cx="81532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下阶段的做法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进一步增强凝聚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明确目标，寻找竞争对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吃透一本复习资料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抓关键学科及关键章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125360"/>
            <a:ext cx="8458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具体的做法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落实计划和目标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值日班干加强督查，尽力消除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干扰因素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加强学习方法的探讨和交流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30120" y="765000"/>
            <a:ext cx="51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路还很长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生活很精彩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努力吧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为我们美好的明天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1"/>
          </p:cNvPr>
          <p:cNvSpPr/>
          <p:nvPr/>
        </p:nvSpPr>
        <p:spPr>
          <a:xfrm>
            <a:off x="6680520" y="595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战胜自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1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我的总结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谈谈自己以前各方面的得失，如：与同学相处，学习，感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大家交流学习经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主动交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要某同学介绍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228600"/>
            <a:ext cx="80010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状元出场“传经送宝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据《青岛晚报》报道：任何一场考试，都是能力、知识、智慧乃至运气等必然因素和偶然因素交互作用的结果，高考更不例外。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充满“硝烟”的高考已经结束，高考过后，最令人瞩目的莫过于高考状元了。透过状元骄人的高分光环，我们更想了解的的是：他们的成绩是如何取得的？他们的学习有哪些“秘诀”？他们波澜不惊的平常心态是如何炼就的？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453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遇到难题我会放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出场人物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江苏盐城马荣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在学习上我没有什么诀窍，可能是我比别人更有恒心，比如节假日我还继续学习，晚上下自习后，我也和很多同学一样经常“开小灶”，但不是像书呆子那样死学，我不是那种学习比较疯狂的人，但不能放松，学习比较坚持有恒心。我的优势就是基础好，不喜欢钻牛角尖，遇到比较难的题目我会放弃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制定科学合理的计划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广州程琳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应考少不了一份科学合理的计划。我的做法是，分阶段“消化”，有侧重点“强攻”，计划要切合自己的实际，注重基础知识，不要在基础薄弱的时候刻意抓偏题、怪题。其中，基础知识的积累是很关键的，对各个科目的均衡进步影响最大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学习像看小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福建李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我的学习其实毫无秘诀可言。我只是认真听课，并完成老师布置的作业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只不过做题时，我愿意思考。我觉得每道题只是外表披着不同款式的衣服，里面的模型其实是一样的。这就好像看情节简单的小说一样，你看了头，就知道结局了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357120"/>
            <a:ext cx="874872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天道只酬勤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出场人物：</a:t>
            </a: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福建吴诗士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700"/>
            </a:b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我惟一的读书诀窍就是“背”。对于老师布置的作业，我一般会在学校里完成。回到家中后，背诵成了我的主要“功课”。“对于一些该背的知识点，我会照单全收地背下来”。平时背诵时，一定要完整地背下来，在运用时，可以更加灵活些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平时，我还靠长跑、散步来调整学习状态。每天下午放学后，只要有时间，我都会和好友一起到操场跑几圈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17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3:16:11Z</dcterms:modified>
  <cp:revision>15</cp:revision>
  <dc:subject>主题班会课件(分28大类): http://shop62905894.taobao.com</dc:subject>
  <dc:title>主题班会课件(分28大类): http://shop62905894.taobao.com</dc:title>
</cp:coreProperties>
</file>