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752D-6321-415B-B537-788AE5C97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239B-2592-4F81-8A86-B7C9B79B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E6F8-1685-4D94-9070-55EDCE9C4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C3B7-224C-414D-A6D4-F5D241F12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C574-2251-442F-AA27-C222E69D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1359-D51D-497F-8F8D-188B32B6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1139-6048-4233-93C5-6CDF2403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010C-31D5-4FB5-A807-74665CFF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CC2C-3E21-4D20-A32A-EC463B30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EB19-5187-4B7A-89BD-F6E7A607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ED83-DC69-4896-B697-627B20CB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D5BA-DB64-4C2A-AE80-5B97098E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1657-1F08-48E7-B08E-04557B8F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196D-6B49-41E7-B90C-BB899518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906D-82A9-4800-B1BA-10E92459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6D32-E637-483D-8AE4-1AB30BAB2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2161-377A-42ED-B6B5-11999746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21BD-FD89-4D93-A81F-6493B7E0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B113-19CC-4D44-9428-663F1DC0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54F2-1CB7-46DC-AF86-62D35C60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9B26-7A3A-4848-BA12-B4E8C1EE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17F6-4039-4EED-BBA8-5375147E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D5EC-5C77-44F4-AD73-FC931D63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7967-87DC-4D32-8A0D-11EA9A92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0B3E-1477-4F74-9445-D5FF60257542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2D24-7559-46C8-8BF4-FC754135D275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9.xml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352320" y="990720"/>
            <a:ext cx="5791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572"/>
                </a:solidFill>
                <a:latin typeface="Arial Black"/>
                <a:ea typeface="华文彩云"/>
              </a:rPr>
              <a:t>求索，</a:t>
            </a:r>
            <a:br>
              <a:rPr sz="7200"/>
            </a:br>
            <a:r>
              <a:rPr b="1" lang="zh-CN" sz="7200" spc="-1" strike="noStrike">
                <a:solidFill>
                  <a:srgbClr val="007572"/>
                </a:solidFill>
                <a:latin typeface="Arial Black"/>
                <a:ea typeface="华文彩云"/>
              </a:rPr>
              <a:t>让生命更精彩</a:t>
            </a:r>
            <a:br>
              <a:rPr sz="7200"/>
            </a:br>
            <a:endParaRPr b="0" lang="en-US" sz="72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848720" y="5638680"/>
            <a:ext cx="380880" cy="381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95480" y="1413000"/>
            <a:ext cx="75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137160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581280" y="838080"/>
            <a:ext cx="4114800" cy="2787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295280" y="4267080"/>
            <a:ext cx="4953240" cy="1067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095480" y="1413000"/>
            <a:ext cx="75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137160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457200"/>
            <a:ext cx="5181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006666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幼圆"/>
                <a:ea typeface="幼圆"/>
              </a:rPr>
              <a:t>不管谁说什么，只走“我的路”，再大的阻碍也绝不放弃</a:t>
            </a:r>
            <a:r>
              <a:rPr b="1" lang="zh-CN" sz="2800" spc="-1" strike="noStrike">
                <a:solidFill>
                  <a:srgbClr val="006666"/>
                </a:solidFill>
                <a:latin typeface="幼圆"/>
                <a:ea typeface="幼圆"/>
              </a:rPr>
              <a:t>!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762120"/>
            <a:ext cx="3124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希丁克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的故事……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95680" y="2362320"/>
            <a:ext cx="40388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李乙容踢飞了点球，希丁克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意大利的巴乔也有踢飞点球的时候。不要泄气！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半场，这位球员越战越勇，帮助队友攻进关键一球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914400" y="3276720"/>
            <a:ext cx="3276720" cy="297180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rId3" action="ppaction://hlinksldjump"/>
          </p:cNvPr>
          <p:cNvSpPr/>
          <p:nvPr/>
        </p:nvSpPr>
        <p:spPr>
          <a:xfrm>
            <a:off x="8001000" y="5791320"/>
            <a:ext cx="533520" cy="533160"/>
          </a:xfrm>
          <a:prstGeom prst="leftArrow">
            <a:avLst>
              <a:gd name="adj1" fmla="val 50000"/>
              <a:gd name="adj2" fmla="val 25017"/>
            </a:avLst>
          </a:prstGeom>
          <a:solidFill>
            <a:srgbClr val="339966"/>
          </a:solidFill>
          <a:ln cap="sq"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05120" y="53352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中学阶段的学习随着时间流逝，描述一下你对中学阶段的学习或生活一些看法好吗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27432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华文彩云"/>
              </a:rPr>
              <a:t>你抱怨过中学学习生活的单调枯燥吗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5181480" cy="4038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5800" y="914400"/>
            <a:ext cx="796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6666"/>
                </a:solidFill>
                <a:latin typeface="Arial"/>
                <a:ea typeface="黑体"/>
              </a:rPr>
              <a:t>中学阶段的学习，一种艰苦、复杂的脑力劳动。从某种意义上说，读书是痛苦的，很多人是难于体验到有什么诗情画意的，尤其是数、理、化三科。这就要求我们培养读书的兴趣。凉茶再苦也有甘味。能实现读书从痛苦向快乐的转化，才得读书的意义，才会读出味道来，觉得读书是人生的一种享受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48006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彩云"/>
              </a:rPr>
              <a:t>如何才能实现这种转化呢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62120" y="4648320"/>
            <a:ext cx="960480" cy="960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0" y="6286680"/>
            <a:ext cx="3809880" cy="571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79280" y="163656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6666"/>
                </a:solidFill>
                <a:latin typeface="黑体"/>
                <a:ea typeface="黑体"/>
              </a:rPr>
              <a:t>盖士人读书，第一要有志，第二要有识，第三要有恒。有志则断不敢为下流，有识则知学问之无尽，不敢以一得以自足，如河伯之观海，如井蛙之观天，皆无识也。有恒则断无不成之事。     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黑体"/>
                <a:ea typeface="黑体"/>
              </a:rPr>
              <a:t>                        ——</a:t>
            </a:r>
            <a:r>
              <a:rPr b="1" lang="zh-CN" sz="3200" spc="-1" strike="noStrike">
                <a:solidFill>
                  <a:srgbClr val="006666"/>
                </a:solidFill>
                <a:latin typeface="黑体"/>
                <a:ea typeface="黑体"/>
              </a:rPr>
              <a:t>《曾国藩家书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676520" y="838080"/>
            <a:ext cx="68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黑体"/>
              </a:rPr>
              <a:t>我们的中学学习很快就会过去，我们对学习都竭尽全力了吗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黑体"/>
              </a:rPr>
              <a:t>是否都确定一个追求奋斗的目标呢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黑体"/>
              </a:rPr>
              <a:t>为了美好的明天，好好奋斗吧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600200" y="3809880"/>
            <a:ext cx="2971800" cy="2286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590920" y="762120"/>
            <a:ext cx="5638680" cy="581400"/>
          </a:xfrm>
          <a:prstGeom prst="rect">
            <a:avLst/>
          </a:prstGeom>
          <a:noFill/>
          <a:ln cap="sq"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黑体"/>
              </a:rPr>
              <a:t>任何一位成功人士都有追求，都有一段为之奋斗的历程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4286520" cy="2371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295280" y="25909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我为什么会成为一个成功的球员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99"/>
                </a:solidFill>
                <a:latin typeface="Arial"/>
              </a:rPr>
              <a:t>乔丹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09480" y="1066680"/>
            <a:ext cx="8229600" cy="520560"/>
          </a:xfrm>
          <a:prstGeom prst="rect">
            <a:avLst/>
          </a:prstGeom>
          <a:noFill/>
          <a:ln cap="sq"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  <a:ea typeface="黑体"/>
              </a:rPr>
              <a:t>你是否注意到竞争对手和身边的同学是如何学习的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198108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黑体"/>
              </a:rPr>
              <a:t>你对自己现在所取得成绩感到满意吗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600200" y="3124080"/>
            <a:ext cx="2619360" cy="3276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79280" y="163656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2133720"/>
            <a:ext cx="8229600" cy="3506760"/>
          </a:xfrm>
          <a:prstGeom prst="rect">
            <a:avLst/>
          </a:prstGeom>
          <a:noFill/>
          <a:ln cap="sq"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黑体"/>
                <a:ea typeface="黑体"/>
              </a:rPr>
              <a:t>艰苦奋斗、奋发进取，从绝望中寻找希望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7572"/>
                </a:solidFill>
                <a:latin typeface="黑体"/>
                <a:ea typeface="黑体"/>
              </a:rPr>
              <a:t>人生终将辉煌！ 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黑体"/>
                <a:ea typeface="黑体"/>
              </a:rPr>
              <a:t>学习永远是必要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黑体"/>
                <a:ea typeface="黑体"/>
              </a:rPr>
              <a:t>吃苦永远是必须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黑体"/>
                <a:ea typeface="黑体"/>
              </a:rPr>
              <a:t>失败永远是必然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7572"/>
                </a:solidFill>
                <a:latin typeface="黑体"/>
                <a:ea typeface="黑体"/>
              </a:rPr>
              <a:t>认真学习，充分吃苦，迎接失败，直至成功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00400" y="533520"/>
            <a:ext cx="4952880" cy="1066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54849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62120" y="1295280"/>
            <a:ext cx="685800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cap="sq" w="9360">
                  <a:solidFill>
                    <a:srgbClr val="008000"/>
                  </a:solidFill>
                  <a:miter/>
                </a:ln>
                <a:solidFill>
                  <a:srgbClr val="006666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自己的追求是什么？</a:t>
            </a:r>
            <a:endParaRPr b="0" lang="en-US" sz="6000" spc="1" strike="noStrike">
              <a:ln cap="sq" w="9360">
                <a:solidFill>
                  <a:srgbClr val="008000"/>
                </a:solidFill>
                <a:miter/>
              </a:ln>
              <a:solidFill>
                <a:srgbClr val="006666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1828800" y="2514600"/>
            <a:ext cx="434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Arial"/>
                <a:ea typeface="黑体"/>
              </a:rPr>
              <a:t>人生需要热情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">
            <a:hlinkClick r:id="rId3" action="ppaction://hlinksldjump"/>
          </p:cNvPr>
          <p:cNvSpPr/>
          <p:nvPr/>
        </p:nvSpPr>
        <p:spPr>
          <a:xfrm>
            <a:off x="2895480" y="373392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Arial"/>
                <a:ea typeface="黑体"/>
              </a:rPr>
              <a:t>人生需要目标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">
            <a:hlinkClick r:id="rId4" action="ppaction://hlinksldjump"/>
          </p:cNvPr>
          <p:cNvSpPr/>
          <p:nvPr/>
        </p:nvSpPr>
        <p:spPr>
          <a:xfrm>
            <a:off x="3352680" y="5029200"/>
            <a:ext cx="403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Arial"/>
                <a:ea typeface="黑体"/>
              </a:rPr>
              <a:t>人生需要坚持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1295280" y="4648320"/>
            <a:ext cx="960480" cy="960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54849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52680" y="5029200"/>
            <a:ext cx="403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6858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黑体"/>
              </a:rPr>
              <a:t>人生是一首诗。对人生的眷恋，对生活的热情，对未来的梦想，这是人生的原动力。若缺乏这些，视读书为畏途，或觉得前路茫茫，即心如古井，死寂人生，那还有什么趣味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371600" y="3733920"/>
            <a:ext cx="3962520" cy="2361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638680" y="3809880"/>
            <a:ext cx="2971800" cy="205740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411480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向日葵——热情地向着太阳生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95480" y="1413000"/>
            <a:ext cx="75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286000" y="990720"/>
            <a:ext cx="1503360" cy="1600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114800" y="137160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世界华人成功学第一人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说：</a:t>
            </a:r>
            <a:endParaRPr b="0" lang="en-US" sz="45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80880" y="3886200"/>
            <a:ext cx="8394840" cy="85104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7772400" y="56386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339966"/>
          </a:solidFill>
          <a:ln cap="sq"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54849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5029200"/>
            <a:ext cx="403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6858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黑体"/>
              </a:rPr>
              <a:t>人生需要有目标，且要始终如一，不能朝立夕改。只有这样，才有个努力的方向，才容易出成果。有目标就有追求，追求中才能展示你人生的光华，展示你人生的全部意义和价值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19320" y="3276720"/>
            <a:ext cx="3200400" cy="3047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334120" y="3657600"/>
            <a:ext cx="2895480" cy="1752480"/>
          </a:xfrm>
          <a:prstGeom prst="wedgeRoundRectCallout">
            <a:avLst>
              <a:gd name="adj1" fmla="val -83004"/>
              <a:gd name="adj2" fmla="val 42574"/>
              <a:gd name="adj3" fmla="val 16667"/>
            </a:avLst>
          </a:prstGeom>
          <a:solidFill>
            <a:srgbClr val="ffffff"/>
          </a:solidFill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黑体"/>
                <a:ea typeface="黑体"/>
              </a:rPr>
              <a:t>正如球员——目标永远锁定在球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95480" y="1413000"/>
            <a:ext cx="75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137160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477120" y="609480"/>
            <a:ext cx="1699920" cy="1600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14400" y="1828800"/>
            <a:ext cx="4952880" cy="3886200"/>
          </a:xfrm>
          <a:prstGeom prst="wedgeRoundRectCallout">
            <a:avLst>
              <a:gd name="adj1" fmla="val 64745"/>
              <a:gd name="adj2" fmla="val -40564"/>
              <a:gd name="adj3" fmla="val 16667"/>
            </a:avLst>
          </a:prstGeom>
          <a:solidFill>
            <a:srgbClr val="fbf7eb"/>
          </a:solidFill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●</a:t>
            </a: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目标越清楚、越明确、越高越好！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 ●</a:t>
            </a: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把个人的目标变成团队的目标，把团队的目标变成每一个人的目标。</a:t>
            </a:r>
            <a:br>
              <a:rPr sz="2400"/>
            </a:b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 ●找更强硬的对手比赛</a:t>
            </a: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发现自己的缺点，才有调整后再打败强手的机会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114800" y="137160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97360" y="609480"/>
            <a:ext cx="207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  <a:ea typeface="黑体"/>
              </a:rPr>
              <a:t>希丁克</a:t>
            </a:r>
            <a:br>
              <a:rPr sz="4400"/>
            </a:br>
            <a:r>
              <a:rPr b="0" lang="zh-CN" sz="4400" spc="-1" strike="noStrike">
                <a:solidFill>
                  <a:srgbClr val="007572"/>
                </a:solidFill>
                <a:latin typeface="Arial"/>
                <a:ea typeface="黑体"/>
              </a:rPr>
              <a:t>的故事……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14800" y="2438280"/>
            <a:ext cx="36576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  <a:ea typeface="楷体_GB2312"/>
              </a:rPr>
              <a:t>希丁克当时为韩国队设定的目标是“世界杯冠军”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  <a:ea typeface="楷体_GB2312"/>
              </a:rPr>
              <a:t>这在当时是根本不可能达成的目标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  <a:ea typeface="楷体_GB2312"/>
              </a:rPr>
              <a:t>但事实是他带队奇迹般地打到了四强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14400" y="838080"/>
            <a:ext cx="2971800" cy="1981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57200" y="3505320"/>
            <a:ext cx="3048120" cy="2619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7543800" y="533520"/>
            <a:ext cx="1371600" cy="2997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95480" y="1413000"/>
            <a:ext cx="75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137160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905120" y="685800"/>
            <a:ext cx="1503360" cy="1600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962520" y="83808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572"/>
                </a:solidFill>
                <a:latin typeface="Arial"/>
                <a:ea typeface="黑体"/>
              </a:rPr>
              <a:t>世界华人成功学第一人</a:t>
            </a:r>
            <a:br>
              <a:rPr sz="2800"/>
            </a:br>
            <a:r>
              <a:rPr b="0" lang="zh-CN" sz="4800" spc="-1" strike="noStrike">
                <a:solidFill>
                  <a:srgbClr val="007572"/>
                </a:solidFill>
                <a:latin typeface="Arial"/>
                <a:ea typeface="经典繁毛楷"/>
              </a:rPr>
              <a:t>          </a:t>
            </a:r>
            <a:r>
              <a:rPr b="0" lang="zh-CN" sz="4500" spc="-1" strike="noStrike">
                <a:solidFill>
                  <a:srgbClr val="007572"/>
                </a:solidFill>
                <a:latin typeface="Arial"/>
              </a:rPr>
              <a:t>说：</a:t>
            </a:r>
            <a:endParaRPr b="0" lang="en-US" sz="4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2666880"/>
            <a:ext cx="8001000" cy="3048120"/>
          </a:xfrm>
          <a:prstGeom prst="rect">
            <a:avLst/>
          </a:prstGeom>
          <a:noFill/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66"/>
                </a:solidFill>
                <a:latin typeface="Arial"/>
                <a:ea typeface="黑体"/>
              </a:rPr>
              <a:t>每一个成功者，都有一个非常明确的目标。</a:t>
            </a: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66"/>
                </a:solidFill>
                <a:latin typeface="Arial"/>
                <a:ea typeface="黑体"/>
              </a:rPr>
              <a:t>每一个人都有可能成为世界顶级人士，所以你要有远大的目标，它会促使你非常乐观积极地努力，即使没有达成世界级，你也可能变成地区性的第一名。</a:t>
            </a: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66"/>
                </a:solidFill>
                <a:latin typeface="Arial"/>
                <a:ea typeface="黑体"/>
              </a:rPr>
              <a:t>如果你原来设定的目标，只是想当地区性的第一名，到最后你可能只会变成自己那条街的冠军……</a:t>
            </a: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7620120" y="5867280"/>
            <a:ext cx="53316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339966"/>
          </a:solidFill>
          <a:ln cap="sq"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54849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5029200"/>
            <a:ext cx="403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83808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黑体"/>
              </a:rPr>
              <a:t>不要怕失败，甚至要习惯失败。“希望是附于存在的，有存在就有希望，有希望便有光明”。跌倒了又算什么！要有这种气慨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523880" y="2895480"/>
            <a:ext cx="1981440" cy="1981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809880" y="3124080"/>
            <a:ext cx="41911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世界华人成功学第一人</a:t>
            </a:r>
            <a:br>
              <a:rPr sz="2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经典繁毛楷"/>
              </a:rPr>
              <a:t>           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说：</a:t>
            </a:r>
            <a:endParaRPr b="0" lang="en-US" sz="4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00200" y="5029200"/>
            <a:ext cx="6781680" cy="1219320"/>
          </a:xfrm>
          <a:prstGeom prst="rect">
            <a:avLst/>
          </a:prstGeom>
          <a:noFill/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66"/>
                </a:solidFill>
                <a:latin typeface="Arial"/>
                <a:ea typeface="黑体"/>
              </a:rPr>
              <a:t>“</a:t>
            </a:r>
            <a:r>
              <a:rPr b="1" lang="zh-CN" sz="2600" spc="-1" strike="noStrike">
                <a:solidFill>
                  <a:srgbClr val="006666"/>
                </a:solidFill>
                <a:latin typeface="Arial"/>
                <a:ea typeface="黑体"/>
              </a:rPr>
              <a:t>不管你经营任何的行业，只要是对的方法，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66"/>
                </a:solidFill>
                <a:latin typeface="Arial"/>
                <a:ea typeface="黑体"/>
              </a:rPr>
              <a:t>坚持到底，成功一定是属于你的！”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4:44:05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39:08Z</dcterms:modified>
  <cp:revision>42</cp:revision>
  <dc:subject>主题班会课件(分28大类): http://shop62905894.taobao.com</dc:subject>
  <dc:title>主题班会课件(分28大类): http://shop62905894.taobao.com</dc:title>
</cp:coreProperties>
</file>