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937-0D20-4CE5-AEBE-9D34D413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EAF-87EE-430F-BACB-0FAFE800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BA3-F6D2-4C5E-BA60-54854A50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B9F-79F4-4E04-A88F-A7D6470E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BCE4-76B0-490D-9F7C-33BA0D4C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6648-FA60-463E-A761-2F8C5895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2D14-5963-499D-ACE7-50635017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FAF3-0285-44F6-9B1B-484AEB4B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6E57-14AA-4308-A3D8-551B6653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7FC3-2BF2-49D6-A8CF-60CBAE96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B5B7-399E-4670-8D39-C008539A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7C0-DEBB-4E4E-AD0F-DC6CF8A0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D716-508F-4D1B-B70D-2B333B44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2122-B2D1-4963-97F3-46A05327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7E0B-1C57-4AC9-A63E-8BCBA810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FFE9-ED61-40B2-A0CC-5B33B2B2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4C8F-2445-496D-855A-DE5EC125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A5F-8CD7-4CE0-BC28-A2FD1142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79D-4557-49FF-BC77-32BA3CD8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D1B-F127-4087-901B-7477B1DF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4B6-28FA-4B35-921C-DF1F37A7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466-BD28-4C3D-8F3E-DA9C2622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177-6D9B-4D48-B5BC-B1521510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654-C117-4B2F-AE74-1A621E58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A58D-F60B-471F-BDD2-CF1BF2681B9E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509840" y="5950080"/>
            <a:ext cx="7634160" cy="12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EEF3-4D15-4E6B-8EE5-CEEB0F0C498D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09840" y="5950080"/>
            <a:ext cx="7634160" cy="12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47920" y="838080"/>
            <a:ext cx="61722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谈读书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63634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63634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200160"/>
            <a:ext cx="9144000" cy="2390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2590920"/>
            <a:ext cx="9144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3359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165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1763640"/>
            <a:ext cx="9144000" cy="4762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268360" y="981000"/>
            <a:ext cx="576108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4537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34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382920" y="2565360"/>
            <a:ext cx="5761080" cy="95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-152280" y="1905120"/>
            <a:ext cx="9296280" cy="4952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41840" y="1341360"/>
            <a:ext cx="5387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刘墉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当今台湾最知名的作家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纽约哥伦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比亚大学博士研究生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圣若望大学研究所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及师大美术系毕业。现任圣若望大学专任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驻校艺术家及副教授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应邀在世界各地举办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画展三十余次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现介绍他的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谈读书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"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63634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63634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34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95640" y="4292640"/>
            <a:ext cx="4249800" cy="69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916360" y="5084640"/>
            <a:ext cx="5761080" cy="95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2860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991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35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4197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042920" y="5462640"/>
            <a:ext cx="763452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42920" y="5462640"/>
            <a:ext cx="7634520" cy="127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0920" y="5013360"/>
            <a:ext cx="7235640" cy="73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5761080" cy="95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382920" y="1341360"/>
            <a:ext cx="5761080" cy="95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622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09840" y="6381720"/>
            <a:ext cx="7634160" cy="12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-127080"/>
            <a:ext cx="9144000" cy="706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7634160" cy="127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339840"/>
            <a:ext cx="9144000" cy="6035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971640" y="260280"/>
            <a:ext cx="763416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7634160" cy="127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509840" y="5157720"/>
            <a:ext cx="7634160" cy="127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893080" cy="289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908000" y="5300640"/>
            <a:ext cx="7634520" cy="127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509840" y="4581360"/>
            <a:ext cx="7634160" cy="127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7634520" cy="127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84360" y="3357720"/>
            <a:ext cx="7634160" cy="12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987640" y="6453360"/>
            <a:ext cx="576108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54:32Z</dcterms:modified>
  <cp:revision>6</cp:revision>
  <dc:subject>主题班会课件(分28大类): http://shop62905894.taobao.com</dc:subject>
  <dc:title>主题班会课件(分28大类): http://shop62905894.taobao.com</dc:title>
</cp:coreProperties>
</file>