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CB96-ACD1-4B6B-B9BB-5CCD3315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3AAE-8DDE-4338-AAB1-279A6DB3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3D1-717B-439A-BBE3-A597B21A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AAF-8D97-4309-A3E6-8AAC71F6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6DD2-6173-4A9D-A463-5409B0B3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88C-1A10-4295-BF56-5750EA5F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D8A-40D3-4A53-AB3D-47BFC344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4F2-E2C0-4499-96E9-F87196F7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FF6-CF87-4C11-9297-CA1E989F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EF1-6A23-49A3-964D-D85D7DD0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17F-C00B-4C8C-9B9B-47204047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CD81-FED8-4E53-A5C6-7FC9605B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12C5-D932-402E-8226-EAE4DF7556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学会生活，学会学习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308160" y="533520"/>
            <a:ext cx="852624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隶书"/>
              </a:rPr>
              <a:t>北极熊的等待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91628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北极熊的聪明在于，它知道在成功之前要经过漫长的等待和煎熬，过程是通往结果的必由之路，只有懂得等待，并在等待成功时能够承受磨练和打击，才能得到想要的结果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可以拒绝学习，但你的竞争对手不会。要想在当今竞争日益激烈的市场中立于不败之地，你不但要学习，而且还要比你的竞争对手学得更快、学得更好。”这是搜狐博客培训师杨松在“个性介绍”里面的一段话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789480" y="1735920"/>
            <a:ext cx="7567560" cy="33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生活不需要假如，让我们把过去交给时间，眼光投向未来吧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793080" y="1163160"/>
            <a:ext cx="7560360" cy="33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隶书"/>
              </a:rPr>
              <a:t>向成功之路踏踏实实的迈进吧！我不希望大家成为“思想的巨人，行动的矮子”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356000" y="3344760"/>
            <a:ext cx="4788000" cy="3513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靠自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小蜗牛问妈妈：为什么我们从生下来，就要背负这个又硬又重的壳呢？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妈妈：因为我们的身体没有骨骼的支撑，只能爬，又爬不快。所以要这个壳的保护！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小蜗牛：毛虫姊姊没有骨头，也爬不快，为什么她却不用背这个又硬又重的壳呢？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妈妈：因为毛虫姊姊能变成蝴蝶，天空会保护她啊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小蜗牛：可是蚯蚓弟弟也没骨头爬不快，也不会变成蝴蝶他什么不背这个又硬又重的壳呢？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妈妈：因为蚯蚓弟弟会钻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地会保护他啊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小蜗牛哭了起来：我们好可怜，天空不保护，大地也不保护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蜗牛妈妈安慰他：「所以我们有壳啊！」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51577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我们不靠天，也不靠地，我们靠自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983280" y="3978360"/>
            <a:ext cx="2160720" cy="287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钓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有个老人在河边钓鱼，一个小孩走过去看他钓鱼，老人技巧纯熟，所以没多久就钓上了满篓的鱼，老人见小孩很可爱，要把整篓的鱼送给他，小孩摇摇头，老人惊异的问道：「你为何不要？」小孩回答：「我想要你手中的钓竿。」老人问：「你要钓竿做什么？」小孩说：「这篓鱼没多久就吃完了，要是我有钓竿，我就可以自己钓，一辈子也吃不完。」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5115600"/>
            <a:ext cx="49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有太多人认为自己拥有了人生道上的钓竿，再也无惧于路上的风雨，如此，难免会跌倒于泥泞地上。就如小孩看老人，以为只要有钓竿就有吃不完的鱼，像职员看老板，以为只要坐在办公室，就有滚进的财源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852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想你一定会说：好聪明的小孩。错了，他如果只要钓竿，那他一条鱼也吃不到。因为，他不懂钓鱼的技巧，光有鱼竿是没用的，因为钓鱼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重要的不在“钓竿”，而在“钓技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03640" y="3753000"/>
            <a:ext cx="4140360" cy="3105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神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法国一个偏僻的小镇，据传有一个特别灵验的水泉，常会出现神迹，可以医治各种疾病。有一天，一个拄着拐杖，少了一条腿的退伍军人，一跛一跛的走过镇上的马路，旁边的镇民带着同情的回吻说：「可怜的家伙，难道他要向上帝祈求再有一条腿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」这一句话被退伍的军人听到了，他转过身对他们说：「我不是要向上帝祈求有一条新的腿，而是要祈求他帮助我，叫我没有一条腿后，也知道如何过日子。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332680"/>
            <a:ext cx="42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试想：学习为所失去的感恩，也接纳失去的事实，不管人生的得与失，总是要让自已的生命充满了亮丽与光彩，不再为过去掉泪，努力的活出自己的生命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76720" y="981000"/>
            <a:ext cx="3571920" cy="4286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4762440" cy="571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964040" y="836640"/>
            <a:ext cx="417996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乔丹投致胜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920" y="62028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NB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赛后季总决赛， 公牛队与犹他爵士队的比赛可谓动人心魄，还剩最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秒，公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落后，这时乔丹抢断球获得成功，这是决定命运的时刻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只能成功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能失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乔丹稳稳地把球朝篮框送出去，中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牛队胜了，第六次摘取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NB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总冠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看乔丹打蓝球最精彩之处是：他总在最后几秒钟甚至在响哨前一刹那，投出一个“致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球”，使他的队反败为胜，在他的蓝球生涯里他总共投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“致胜球”。这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致胜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但决定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场胜利，还让乔丹成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世纪最伟大的篮球运动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乔丹说：“每当别人都知道我会拿到并投进终场前的‘致胜球’时，我总是更加信心百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不能让球迷，让球队，让自己失望，每一次挑战我总能创造一次奇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无论我陷入何种困境，我都会想，自己一定能成功。而不去想，如果失败了会怎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有些人一想到可能会有一个糟糕的结局，便会恐惧得浑身发冷。我认为，如果我想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一生中有所成就，就必须积极进取，我必须主动出击。我相信，畏畏缩缩是成不了大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对于某些人来说，恐惧是一道障碍，可对我而言，它只是一种幻觉。任何恐惧都是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觉你以为有东西挡着你的道，其实只是一个可以让你竭尽全力去获得成功的机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如果我发挥出自己最大的能力，依然不能尽如人意，那么，我也用不着在回首往事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说，当时我怕得连试都不敢试。努力尝试并没有错，也没有什么可以害怕的。失败总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会激励 我下一次付出更多的努力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530600" cy="6391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422604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阿里的想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拳王阿里在一场争夺重量级冠军的决赛中，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回合被对手打得很惨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他的眼角裂了，鼻孔流出了鲜血。他的教练在休息时问他：“要不要放弃比赛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里说：“这样的问题你应该在拳赛结束后再问我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短暂的休息中，他反复想象自己打倒对手时的情景，想像千万人为自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欢呼的情景，口中念念有词，不断告诉自己：“我最强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回合，阿里又恢复了拳王的气势，把对手打得落花流水，最后，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记重勾拳击倒了对手而获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想象有强大的力量，许多成大事的人都是先从自己描绘具体行动形象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始，然后为实现愿望竭尽全力去工作。他们都是平凡人，但他们能焕发自己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潜能，所以成就了伟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断想象自己成功的场景，想象得越具体越好，这是焕发自己潜能的魔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成就伟大人生的最重要法则是：“人生将依照你自己所想象所描绘的样子而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现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当然，光靠想象是不够的，只有愿望没有行动永远达不到目的。虽然行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未必能保证结果，但你必须知道：没有行动就绝对没有成功的希望。但同样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行动，有潜意识与没有潜意识，其结果是不一样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7T08:44:2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52:58Z</dcterms:modified>
  <cp:revision>22</cp:revision>
  <dc:subject>主题班会课件(分28大类): http://shop62905894.taobao.com</dc:subject>
  <dc:title>主题班会课件(分28大类): http://shop62905894.taobao.com</dc:title>
</cp:coreProperties>
</file>