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FD3-D094-40F7-A52E-8E030950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88C-55AF-44AF-B7FB-10DC665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931-6F98-4F7F-8B94-5D1A5326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E49-8B5C-477C-B060-8FEA6276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9C7-35A2-4366-8E15-183D07AB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E46-E04F-4C7A-B640-D0ACCF73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2B1-D5D9-4B5C-A78A-0F5BF133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0AE-AC72-400F-A206-E2FD352F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3C1-B88B-4099-A323-82C31073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FB2-6D6C-4C4A-AAA5-1AC061BB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EC6-420B-4F75-A74C-A888CEAE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D98-D8E0-41B6-BB10-DB12C33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CEB2-3C14-41A3-A961-8D82419B55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143000" y="3581280"/>
          <a:ext cx="502920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581280"/>
                    <a:ext cx="5029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 txBox="1"/>
          <p:nvPr/>
        </p:nvSpPr>
        <p:spPr>
          <a:xfrm>
            <a:off x="533520" y="762120"/>
            <a:ext cx="632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名著伴我成长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259092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cc00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D</a:t>
            </a:r>
            <a:r>
              <a:rPr b="0" lang="zh-CN" sz="2400" spc="1" strike="noStrike">
                <a:ln w="19080">
                  <a:solidFill>
                    <a:srgbClr val="cc00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主题班会</a:t>
            </a:r>
            <a:endParaRPr b="0" lang="en-US" sz="2400" spc="1" strike="noStrike">
              <a:ln w="19080">
                <a:solidFill>
                  <a:srgbClr val="cc00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0"/>
            <a:ext cx="990720" cy="83808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990720"/>
            <a:ext cx="251460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i="1" lang="zh-CN" sz="2800" spc="-1" strike="noStrike">
                <a:solidFill>
                  <a:srgbClr val="ffffff"/>
                </a:solidFill>
                <a:latin typeface="宋体"/>
              </a:rPr>
              <a:t>桃园三结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286000"/>
            <a:ext cx="251460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草船借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429000"/>
            <a:ext cx="274320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单刀赴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76920"/>
            <a:ext cx="281952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4.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舌战群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990720"/>
            <a:ext cx="2210040" cy="52056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7c80"/>
                </a:solidFill>
                <a:latin typeface="Times New Roman"/>
              </a:rPr>
              <a:t>5.</a:t>
            </a:r>
            <a:r>
              <a:rPr b="1" i="1" lang="zh-CN" sz="2800" spc="-1" strike="noStrike">
                <a:solidFill>
                  <a:srgbClr val="ff7c80"/>
                </a:solidFill>
                <a:latin typeface="Times New Roman"/>
              </a:rPr>
              <a:t>火烧赤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2209680"/>
            <a:ext cx="22100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0033"/>
                </a:solidFill>
                <a:latin typeface="Times New Roman"/>
              </a:rPr>
              <a:t>6.</a:t>
            </a:r>
            <a:r>
              <a:rPr b="1" i="1" lang="zh-CN" sz="2800" spc="-1" strike="noStrike">
                <a:solidFill>
                  <a:srgbClr val="990033"/>
                </a:solidFill>
                <a:latin typeface="Times New Roman"/>
              </a:rPr>
              <a:t>七擒孟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352680"/>
            <a:ext cx="213372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7c80"/>
                </a:solidFill>
                <a:latin typeface="Times New Roman"/>
              </a:rPr>
              <a:t>7.</a:t>
            </a:r>
            <a:r>
              <a:rPr b="1" i="1" lang="zh-CN" sz="2800" spc="-1" strike="noStrike">
                <a:solidFill>
                  <a:srgbClr val="ff7c80"/>
                </a:solidFill>
                <a:latin typeface="Times New Roman"/>
              </a:rPr>
              <a:t>三顾茅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4876920"/>
            <a:ext cx="236232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8.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三气周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2895120" y="281952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三国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610480" y="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0"/>
            <a:ext cx="1143000" cy="106668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990720"/>
            <a:ext cx="3886200" cy="64260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a.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景阳冈打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895480"/>
            <a:ext cx="2971800" cy="642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99ff"/>
                </a:solidFill>
                <a:latin typeface="Times New Roman"/>
              </a:rPr>
              <a:t>b.</a:t>
            </a:r>
            <a:r>
              <a:rPr b="1" i="1" lang="zh-CN" sz="3600" spc="-1" strike="noStrike">
                <a:solidFill>
                  <a:srgbClr val="6699ff"/>
                </a:solidFill>
                <a:latin typeface="Times New Roman"/>
              </a:rPr>
              <a:t>拳打镇关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00600"/>
            <a:ext cx="28958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c.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雪夜上梁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1981080"/>
            <a:ext cx="3276360" cy="64260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d.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倒拔垂杨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886200"/>
            <a:ext cx="29718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99ff"/>
                </a:solidFill>
                <a:latin typeface="Times New Roman"/>
              </a:rPr>
              <a:t>e.</a:t>
            </a:r>
            <a:r>
              <a:rPr b="1" i="1" lang="zh-CN" sz="3600" spc="-1" strike="noStrike">
                <a:solidFill>
                  <a:srgbClr val="6699ff"/>
                </a:solidFill>
                <a:latin typeface="Times New Roman"/>
              </a:rPr>
              <a:t>智取生辰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5715000"/>
            <a:ext cx="28958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大闹五台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257800" y="304920"/>
            <a:ext cx="2438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水浒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04920" y="228600"/>
            <a:ext cx="1218960" cy="106668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286000"/>
            <a:ext cx="26668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00ff"/>
                </a:solidFill>
                <a:latin typeface="Times New Roman"/>
              </a:rPr>
              <a:t>a.</a:t>
            </a:r>
            <a:r>
              <a:rPr b="1" i="1" lang="zh-CN" sz="3200" spc="-1" strike="noStrike">
                <a:solidFill>
                  <a:srgbClr val="9900ff"/>
                </a:solidFill>
                <a:latin typeface="Times New Roman"/>
              </a:rPr>
              <a:t>三打白骨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276720"/>
            <a:ext cx="2438280" cy="5814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8000"/>
                </a:solidFill>
                <a:latin typeface="Times New Roman"/>
              </a:rPr>
              <a:t>b.</a:t>
            </a:r>
            <a:r>
              <a:rPr b="1" i="1" lang="zh-CN" sz="3200" spc="-1" strike="noStrike">
                <a:solidFill>
                  <a:srgbClr val="008000"/>
                </a:solidFill>
                <a:latin typeface="Times New Roman"/>
              </a:rPr>
              <a:t>大闹天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4419720"/>
            <a:ext cx="25909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c.</a:t>
            </a: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大闹地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5562720"/>
            <a:ext cx="259092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cc"/>
                </a:solidFill>
                <a:latin typeface="Times New Roman"/>
              </a:rPr>
              <a:t>d.</a:t>
            </a:r>
            <a:r>
              <a:rPr b="1" i="1" lang="zh-CN" sz="3200" spc="-1" strike="noStrike">
                <a:solidFill>
                  <a:srgbClr val="ff66cc"/>
                </a:solidFill>
                <a:latin typeface="Times New Roman"/>
              </a:rPr>
              <a:t>大战红孩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590920"/>
            <a:ext cx="27432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00ff"/>
                </a:solidFill>
                <a:latin typeface="Times New Roman"/>
              </a:rPr>
              <a:t>e.</a:t>
            </a:r>
            <a:r>
              <a:rPr b="1" i="1" lang="zh-CN" sz="3200" spc="-1" strike="noStrike">
                <a:solidFill>
                  <a:srgbClr val="9900ff"/>
                </a:solidFill>
                <a:latin typeface="Times New Roman"/>
              </a:rPr>
              <a:t>大战流沙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657600"/>
            <a:ext cx="2743200" cy="5205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f.</a:t>
            </a:r>
            <a:r>
              <a:rPr b="1" i="1" lang="zh-CN" sz="2800" spc="-1" strike="noStrike">
                <a:solidFill>
                  <a:srgbClr val="008000"/>
                </a:solidFill>
                <a:latin typeface="Times New Roman"/>
              </a:rPr>
              <a:t>三借芭蕉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648320"/>
            <a:ext cx="274320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g.</a:t>
            </a: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大闹龙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5867280"/>
            <a:ext cx="274320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cc"/>
                </a:solidFill>
                <a:latin typeface="Times New Roman"/>
              </a:rPr>
              <a:t>h.</a:t>
            </a:r>
            <a:r>
              <a:rPr b="1" i="1" lang="zh-CN" sz="3200" spc="-1" strike="noStrike">
                <a:solidFill>
                  <a:srgbClr val="ff66cc"/>
                </a:solidFill>
                <a:latin typeface="Times New Roman"/>
              </a:rPr>
              <a:t>偷吃人参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24280" y="533520"/>
            <a:ext cx="2362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西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8610480" y="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28600" y="304920"/>
            <a:ext cx="1219320" cy="1143000"/>
          </a:xfrm>
          <a:prstGeom prst="smileyFace">
            <a:avLst>
              <a:gd name="adj" fmla="val 928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133720"/>
            <a:ext cx="236232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葫芦僧判断葫芦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724280"/>
            <a:ext cx="266724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大观园对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0481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133720"/>
            <a:ext cx="2057400" cy="581400"/>
          </a:xfrm>
          <a:prstGeom prst="rect">
            <a:avLst/>
          </a:prstGeom>
          <a:solidFill>
            <a:srgbClr val="99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林黛玉葬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19720"/>
            <a:ext cx="2286000" cy="1068840"/>
          </a:xfrm>
          <a:prstGeom prst="rect">
            <a:avLst/>
          </a:prstGeom>
          <a:solidFill>
            <a:srgbClr val="33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刘姥姥进大观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 rot="5400000">
            <a:off x="2932920" y="2476440"/>
            <a:ext cx="335268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红楼梦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8610480" y="0"/>
            <a:ext cx="533520" cy="838080"/>
          </a:xfrm>
          <a:custGeom>
            <a:avLst/>
            <a:gdLst>
              <a:gd name="textAreaLeft" fmla="*/ 133200 w 533520"/>
              <a:gd name="textAreaRight" fmla="*/ 400320 w 533520"/>
              <a:gd name="textAreaTop" fmla="*/ 133200 h 838080"/>
              <a:gd name="textAreaBottom" fmla="*/ 70488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16200" y="28522"/>
                </a:lnTo>
                <a:lnTo>
                  <a:pt x="16200" y="5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5400" y="28522"/>
                </a:lnTo>
                <a:lnTo>
                  <a:pt x="16200" y="28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5400" y="5400"/>
                </a:lnTo>
                <a:lnTo>
                  <a:pt x="5400" y="28522"/>
                </a:lnTo>
                <a:close/>
              </a:path>
              <a:path fill="darken" w="21600" h="33922">
                <a:moveTo>
                  <a:pt x="10800" y="12961"/>
                </a:moveTo>
                <a:lnTo>
                  <a:pt x="12280" y="14461"/>
                </a:lnTo>
                <a:lnTo>
                  <a:pt x="12280" y="13461"/>
                </a:lnTo>
                <a:lnTo>
                  <a:pt x="13300" y="13461"/>
                </a:lnTo>
                <a:lnTo>
                  <a:pt x="13300" y="15481"/>
                </a:lnTo>
                <a:lnTo>
                  <a:pt x="14800" y="16961"/>
                </a:lnTo>
                <a:lnTo>
                  <a:pt x="13850" y="16961"/>
                </a:lnTo>
                <a:lnTo>
                  <a:pt x="13850" y="21091"/>
                </a:lnTo>
                <a:lnTo>
                  <a:pt x="7750" y="21091"/>
                </a:lnTo>
                <a:lnTo>
                  <a:pt x="7750" y="16961"/>
                </a:lnTo>
                <a:lnTo>
                  <a:pt x="6800" y="16961"/>
                </a:lnTo>
                <a:close/>
              </a:path>
              <a:path fill="darkenLess" w="21600" h="33922">
                <a:moveTo>
                  <a:pt x="12280" y="14461"/>
                </a:moveTo>
                <a:lnTo>
                  <a:pt x="12280" y="13461"/>
                </a:lnTo>
                <a:lnTo>
                  <a:pt x="13300" y="13461"/>
                </a:lnTo>
                <a:lnTo>
                  <a:pt x="13300" y="15481"/>
                </a:lnTo>
                <a:close/>
              </a:path>
              <a:path fill="darkenLess" w="21600" h="33922">
                <a:moveTo>
                  <a:pt x="10270" y="18971"/>
                </a:moveTo>
                <a:lnTo>
                  <a:pt x="11330" y="18971"/>
                </a:lnTo>
                <a:lnTo>
                  <a:pt x="11330" y="21091"/>
                </a:lnTo>
                <a:lnTo>
                  <a:pt x="13850" y="21091"/>
                </a:lnTo>
                <a:lnTo>
                  <a:pt x="13850" y="16961"/>
                </a:lnTo>
                <a:lnTo>
                  <a:pt x="7750" y="16961"/>
                </a:lnTo>
                <a:lnTo>
                  <a:pt x="7750" y="21091"/>
                </a:lnTo>
                <a:lnTo>
                  <a:pt x="10270" y="21091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603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在《三国演义》中有一位英雄，他曾温酒斩华雄、千里走单骑、刮骨疗毒，被后人敬仰并尊为中国的“武圣”，这位英雄是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___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《三国演义》中主要人物中被称“三绝”的分别是：“奸绝”是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“智绝”是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_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“义绝”是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_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请结合《三国演义》。说出诸葛亮与周瑜联手指挥的一场著名的以少胜多地战例，是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____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再说诸葛亮挥泪斩马谡是因为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____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事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《三国演义》中有这样两段话：“譬犹驽马并麒麟，寒鸦配鸾凤耳”，“无异周得吕望，汉得张良”，说此话者是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被赞誉的人是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__</a:t>
            </a:r>
            <a:r>
              <a:rPr b="1" i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关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曹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关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赤壁之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733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失街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5029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029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徐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下面的一副对联概括了诸葛亮一生的功绩。参考示例，从列出的六项中任意选出两项，写出具体所指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收二川，排八阵，六出七擒，五丈原前，点四十九盏明灯，一心只为酬三顾。 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取西蜀，定南蛮，东和北柜，中军帐里，变金木土爻神卦，水面偏能用火功。 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示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三顾：三顾茅庐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六出：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东和：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收二川：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、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 七擒：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北拒：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排八阵：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祁   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657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孙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东川   西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038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孟    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曹  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八阵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724280"/>
            <a:ext cx="8915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请你说出本书中的成语及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望梅止渴（         ） 万事具备，只欠东风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草船借箭（       ）锦囊妙计（       ）欲擒故纵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曹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2960" y="563868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诸葛亮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4880" y="5562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诸葛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35720" y="5562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诸葛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86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刘备当皇叔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505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东吴招亲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572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曹操杀吉平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791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张飞穿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时来运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5053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弄假成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4572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恼羞成怒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791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大眼瞪小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533520"/>
            <a:ext cx="8915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歇后语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6036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在《水浒传》中，绰号为“智多星”的人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也被称为”赛诸葛”。他与一伙好汉在“黄冈泥上巧施功”，干了一件大事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梁山一百单八将中第一个出场的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他的绰号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《水浒传》的作者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朝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它是我国第一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____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小说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《水浒传》中共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天罡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地煞星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《水浒传》中冒充李逵拦路打劫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后被李逵一刀打翻在地的人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补全回目：①、史大郎夜走华阴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拳打镇关西②、梁山泊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落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汴京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卖刀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38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吴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1295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智取生辰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1600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1676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史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057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九纹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施耐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末明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章回体长篇白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百零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3352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十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七十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5720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李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林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杨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《水浒》主要人物有及时雨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行者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花和尚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黑旋风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《水浒》中身怀绝技的三位英雄：善盗的是鼓上蚤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善射的是小李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善行的是神行太保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武松在血油鸳鸯楼，杀死西门庆等人后，在墙上写下了哪八个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《水浒传》中三位女将是谁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她们的绰号是什么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655308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4822" h="21600">
                <a:moveTo>
                  <a:pt x="67411" y="3837"/>
                </a:moveTo>
                <a:lnTo>
                  <a:pt x="69987" y="6448"/>
                </a:lnTo>
                <a:lnTo>
                  <a:pt x="69987" y="4707"/>
                </a:lnTo>
                <a:lnTo>
                  <a:pt x="71763" y="4707"/>
                </a:lnTo>
                <a:lnTo>
                  <a:pt x="71763" y="8224"/>
                </a:lnTo>
                <a:lnTo>
                  <a:pt x="74374" y="10800"/>
                </a:lnTo>
                <a:lnTo>
                  <a:pt x="72720" y="10800"/>
                </a:lnTo>
                <a:lnTo>
                  <a:pt x="72720" y="17989"/>
                </a:lnTo>
                <a:lnTo>
                  <a:pt x="62102" y="17989"/>
                </a:lnTo>
                <a:lnTo>
                  <a:pt x="62102" y="10800"/>
                </a:lnTo>
                <a:lnTo>
                  <a:pt x="60448" y="10800"/>
                </a:lnTo>
                <a:close/>
              </a:path>
              <a:path fill="darkenLess" w="134822" h="21600">
                <a:moveTo>
                  <a:pt x="69987" y="6448"/>
                </a:moveTo>
                <a:lnTo>
                  <a:pt x="69987" y="4707"/>
                </a:lnTo>
                <a:lnTo>
                  <a:pt x="71763" y="4707"/>
                </a:lnTo>
                <a:lnTo>
                  <a:pt x="71763" y="8224"/>
                </a:lnTo>
                <a:close/>
              </a:path>
              <a:path fill="darkenLess" w="134822" h="21600">
                <a:moveTo>
                  <a:pt x="66488" y="14299"/>
                </a:moveTo>
                <a:lnTo>
                  <a:pt x="68333" y="14299"/>
                </a:lnTo>
                <a:lnTo>
                  <a:pt x="68333" y="17989"/>
                </a:lnTo>
                <a:lnTo>
                  <a:pt x="72720" y="17989"/>
                </a:lnTo>
                <a:lnTo>
                  <a:pt x="72720" y="10800"/>
                </a:lnTo>
                <a:lnTo>
                  <a:pt x="62102" y="10800"/>
                </a:lnTo>
                <a:lnTo>
                  <a:pt x="62102" y="17989"/>
                </a:lnTo>
                <a:lnTo>
                  <a:pt x="66488" y="17989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宋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武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57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智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李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花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戴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2590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2590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杀人者打虎武松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47242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3809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顾大娘（母大虫）孙二娘（母夜叉）扈三娘（一丈青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《西游记》中，师徒一行经过千难万险，终于得正果，最后唐僧被如来佛封为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孙悟空被封为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猪八戒封为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沙僧封为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和白龙马封为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有人对《西游记》有人道：“阳光灿烂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，百变猴头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，憨厚老成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，阿弥陀佛是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。漫漫西天取经路，除妖斗魔显真功。若问是谁普此画，淮安才子吴承恩。”</a:t>
            </a: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孙悟空的第一个师傅是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_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它的兵器原是大禹治水的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__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又唤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____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大闹天宫后被如来佛祖压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。后皈依佛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唐僧为他取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、《西游记》全书共分三大部分：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7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回写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________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的故事，是全书的精华部分，表现孙悟空的反抗精神；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8----12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回写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______</a:t>
            </a: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_x000b_"/>
              </a:rPr>
              <a:t>     _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__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的来历、魏征斩蛇、唐太宗入冥府，交待取经的缘起；第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13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回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-----100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回写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_____________________________________________________________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、《西游记》的作者运用了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________________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手法描绘了一个奇妙的神话世界，花果山水帘洞洞口的对联是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“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__________________ 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_____________________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补足歇后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 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猪八戒照镜子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猪八戒见高小姐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_x000b_"/>
              </a:rPr>
              <a:t>钻进铁扇公主肚里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_x000b_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152280 w 762120"/>
              <a:gd name="textAreaRight" fmla="*/ 609840 w 762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1606" y="5400"/>
                </a:lnTo>
                <a:lnTo>
                  <a:pt x="5400" y="5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1606" y="16200"/>
                </a:lnTo>
                <a:lnTo>
                  <a:pt x="21606" y="5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606" y="16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006" h="21600">
                <a:moveTo>
                  <a:pt x="13503" y="6775"/>
                </a:moveTo>
                <a:arcTo wR="4025" hR="4025" stAng="16200000" swAng="-5400000"/>
                <a:arcTo wR="4025" hR="4025" stAng="10800000" swAng="-5400000"/>
                <a:arcTo wR="4025" hR="4025" stAng="5400000" swAng="-5400000"/>
                <a:arcTo wR="4025" hR="4025" stAng="0" swAng="-5400000"/>
                <a:close/>
              </a:path>
              <a:path fill="lighten" w="27006" h="21600">
                <a:moveTo>
                  <a:pt x="13503" y="6990"/>
                </a:moveTo>
                <a:arcTo wR="1030" hR="1030" stAng="16200000" swAng="-5400000"/>
                <a:arcTo wR="1030" hR="1030" stAng="10800000" swAng="-5400000"/>
                <a:arcTo wR="1030" hR="1030" stAng="5400000" swAng="-5400000"/>
                <a:arcTo wR="1030" hR="1030" stAng="0" swAng="-5400000"/>
                <a:close/>
              </a:path>
              <a:path fill="lighten" w="27006" h="21600">
                <a:moveTo>
                  <a:pt x="12023" y="9320"/>
                </a:moveTo>
                <a:lnTo>
                  <a:pt x="14243" y="9320"/>
                </a:lnTo>
                <a:lnTo>
                  <a:pt x="14243" y="13340"/>
                </a:lnTo>
                <a:lnTo>
                  <a:pt x="14983" y="13340"/>
                </a:lnTo>
                <a:lnTo>
                  <a:pt x="14983" y="13870"/>
                </a:lnTo>
                <a:lnTo>
                  <a:pt x="12023" y="13870"/>
                </a:lnTo>
                <a:lnTo>
                  <a:pt x="12023" y="13340"/>
                </a:lnTo>
                <a:lnTo>
                  <a:pt x="12763" y="13340"/>
                </a:lnTo>
                <a:lnTo>
                  <a:pt x="12763" y="9840"/>
                </a:lnTo>
                <a:lnTo>
                  <a:pt x="12023" y="984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28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擅檀公德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228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斗战胜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净坛使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609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金身罗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533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八部天龙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838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猪八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838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孙悟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沙和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1143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唐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菩提祖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定海神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如意金箍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五行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孙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大闹天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唐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581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唐僧师徒取经途中历经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难和师徒终成正果带经回东土大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3886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浪漫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花果山福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水帘洞洞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4876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_x000b_"/>
              </a:rPr>
              <a:t>里外不是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5181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_x000b_"/>
              </a:rPr>
              <a:t>改头换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5486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_x000b_"/>
              </a:rPr>
              <a:t>心腹之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1174000">
            <a:off x="1752120" y="31248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名人说读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371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读书破万卷，下笔如有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读万卷书，行万里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3526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书籍是人类进步的阶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191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读一本好书，就如同和一个高尚人的谈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53341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书犹药也，善读之可以医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676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杜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23623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高尔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高尔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334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刘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“开谈不说《红楼梦》，读尽诗书也枉然。”一曲红楼多少梦？情天情海幻情身。作品塑造了三个悲剧人物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为爱情熬尽最后一滴眼泪，含恨而死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终于离弃“温柔富贵之乡”而遁入空门；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虽成了荣府的“二奶奶”却没有赢得真正的爱情，陪伴她的是终生凄凉孤苦。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《红楼梦》中，有一个女子，她模样标致，语言爽利，心机极深细，但“机关算尽太聪明，反误了卿卿性命”，这个人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；还有一个女子，她寄人篱下，渴望真挚的爱情，但在森严冷漠的封建大家族中，只能凄婉的唱出”一年三百六十日，风刀霜剑严相逼”，这个就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最具叛逆性格的丫鬟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涉及到她的情节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最卑躬屈膝的丫鬟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书中还刻画了一个善良风趣的农村老妇人，她就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贾府的“四春”分别是：孤独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懦弱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精明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孤僻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取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_”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之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林黛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68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贾宝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薛宝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王熙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林黛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晴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撕扇子作千金一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袭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4343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刘姥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元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迎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探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惜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5105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原应叹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《红楼梦》第六十六回，“情小妹痴情归地府，冷二郎冷入空门”中的情小妹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冷二郎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《红楼梦》又称《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》、《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》、《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》、《》。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宝玉梦游太虚幻境时，饮的仙茶叫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，品的酒叫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，听的歌曲名叫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《红楼梦》中最长的一首诗是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写的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《红楼梦》中最热闹的情节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最有趣的情节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最凄惨的情节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贾宝玉佩戴的玉叫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薛宝钗佩戴的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史湘云佩戴的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1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一个是阆苑仙葩，一个是美玉无瑕。若说没奇缘，今生偏又遇着他；若说有奇缘，如何心事终虚话？”这首诗揭示了《红楼梦》中一对青年男女的爱情悲剧。其中“阆苑仙葩”指的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“美玉无瑕”指的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152280 w 838080"/>
              <a:gd name="textAreaRight" fmla="*/ 685800 w 8380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4297" y="5400"/>
                </a:lnTo>
                <a:lnTo>
                  <a:pt x="5400" y="5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4297" y="16200"/>
                </a:lnTo>
                <a:lnTo>
                  <a:pt x="24297" y="5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4297" y="16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9697" h="21600">
                <a:moveTo>
                  <a:pt x="14848" y="13100"/>
                </a:moveTo>
                <a:arcTo wR="845" hR="845" stAng="16200000" swAng="-5400000"/>
                <a:arcTo wR="845" hR="845" stAng="10800000" swAng="-5400000"/>
                <a:arcTo wR="845" hR="845" stAng="5400000" swAng="-5400000"/>
                <a:arcTo wR="845" hR="845" stAng="0" swAng="-5400000"/>
                <a:close/>
              </a:path>
              <a:path fill="darken" w="29697" h="21600">
                <a:moveTo>
                  <a:pt x="15483" y="12800"/>
                </a:moveTo>
                <a:lnTo>
                  <a:pt x="15483" y="11675"/>
                </a:lnTo>
                <a:cubicBezTo>
                  <a:pt x="15483" y="11200"/>
                  <a:pt x="15673" y="10800"/>
                  <a:pt x="16018" y="10800"/>
                </a:cubicBezTo>
                <a:cubicBezTo>
                  <a:pt x="16668" y="10800"/>
                  <a:pt x="17183" y="10015"/>
                  <a:pt x="17183" y="9105"/>
                </a:cubicBezTo>
                <a:cubicBezTo>
                  <a:pt x="17183" y="7775"/>
                  <a:pt x="16118" y="6775"/>
                  <a:pt x="14848" y="6775"/>
                </a:cubicBezTo>
                <a:cubicBezTo>
                  <a:pt x="13578" y="6775"/>
                  <a:pt x="12618" y="7775"/>
                  <a:pt x="12618" y="9105"/>
                </a:cubicBezTo>
                <a:lnTo>
                  <a:pt x="13683" y="9105"/>
                </a:lnTo>
                <a:cubicBezTo>
                  <a:pt x="13683" y="8450"/>
                  <a:pt x="14213" y="7940"/>
                  <a:pt x="14848" y="7940"/>
                </a:cubicBezTo>
                <a:cubicBezTo>
                  <a:pt x="15483" y="7940"/>
                  <a:pt x="16018" y="8450"/>
                  <a:pt x="16018" y="9105"/>
                </a:cubicBezTo>
                <a:cubicBezTo>
                  <a:pt x="16018" y="9530"/>
                  <a:pt x="15748" y="9950"/>
                  <a:pt x="15483" y="9950"/>
                </a:cubicBezTo>
                <a:cubicBezTo>
                  <a:pt x="14848" y="9950"/>
                  <a:pt x="14213" y="10800"/>
                  <a:pt x="14213" y="11675"/>
                </a:cubicBezTo>
                <a:lnTo>
                  <a:pt x="14213" y="12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尤三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5720" y="304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柳湘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685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石头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情僧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8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宝玉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10666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金陵十二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红一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艳同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红楼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贾宝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芙蓉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2514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妃省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895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刘姥姥进大观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2895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黛玉焚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通灵宝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金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玉麒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51814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林黛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贾宝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0" y="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初中生语文新课标必读丛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骆驼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22860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繁星    春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3352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4267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的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5334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1295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人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2438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286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格列佛游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3352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滨逊漂流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1120" y="4343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钢铁是怎样炼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5257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60958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汤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索亚历险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6520" y="1447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书痴者文必工，艺痴者艺必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286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读死书是害己，一开口是害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3048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生活里没有书籍，就好象没有阳光；智慧里没有书籍，就好象鸟儿没有翅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4724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尽信书则不如无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54864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读书有三到：眼到，口到，心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1447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蒲松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莎士比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4876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1174000">
            <a:off x="1519200" y="380880"/>
            <a:ext cx="5027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名人说读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1676520"/>
            <a:ext cx="5715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大古典名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三国演义》    罗贯中    元末明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水浒传》        施耐庵    元末明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西游记》        吴承恩     明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红楼梦》        曹雪芹     清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28600"/>
            <a:ext cx="1676160" cy="9144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国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905120"/>
            <a:ext cx="1752480" cy="1066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浒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657600"/>
            <a:ext cx="1752480" cy="1143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西游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562720"/>
            <a:ext cx="1752480" cy="1066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红学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3276720" y="228600"/>
            <a:ext cx="1981080" cy="914400"/>
          </a:xfrm>
          <a:prstGeom prst="cloudCallout">
            <a:avLst>
              <a:gd name="adj1" fmla="val -6328"/>
              <a:gd name="adj2" fmla="val 133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演    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057400"/>
            <a:ext cx="2210040" cy="762120"/>
          </a:xfrm>
          <a:prstGeom prst="cloudCallout">
            <a:avLst>
              <a:gd name="adj1" fmla="val -3518"/>
              <a:gd name="adj2" fmla="val 1612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故   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2133360" cy="914400"/>
          </a:xfrm>
          <a:prstGeom prst="cloudCallout">
            <a:avLst>
              <a:gd name="adj1" fmla="val -6398"/>
              <a:gd name="adj2" fmla="val 1244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     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5410080"/>
            <a:ext cx="2209680" cy="914400"/>
          </a:xfrm>
          <a:prstGeom prst="cloudCallout">
            <a:avLst>
              <a:gd name="adj1" fmla="val -1078"/>
              <a:gd name="adj2" fmla="val 1010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唱     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Ｐ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Ｐ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Ｐ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685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228600"/>
            <a:ext cx="25146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佳口才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1905120"/>
            <a:ext cx="2514600" cy="761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佳故事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3581280"/>
            <a:ext cx="25146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智多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5410080"/>
            <a:ext cx="25146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佳演唱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8333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8333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8333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8333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1:03:4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57:30Z</dcterms:modified>
  <cp:revision>69</cp:revision>
  <dc:subject>主题班会课件(分28大类): http://shop62905894.taobao.com</dc:subject>
  <dc:title>主题班会课件(分28大类): http://shop62905894.taobao.com</dc:title>
</cp:coreProperties>
</file>