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79F5-C36A-47A6-83EB-9069968AE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8BEC-213B-4E85-8981-66DD42E5F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AEE6-07C1-4632-98CB-57637C0BD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CCDE-2360-4E6D-B02E-07C432B3F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E01B-5736-4F68-87F0-0BA612E6C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956D-8416-4EC2-9FCB-CE3FFE756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6FF9-AA01-44A5-939C-CCC680F15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707D-014E-482E-855B-B598DAB39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E93E-FA42-4132-8BB8-D5A187B4E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9953-D066-4A42-9B5B-6040C76BF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CA71-2A8B-4EC9-AE01-0C0A39464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0903-8CAC-40C6-A035-ACF0A05D6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DB05E-DE83-40C9-8BB7-23C99C29F71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907920"/>
            <a:ext cx="9372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99"/>
                </a:solidFill>
                <a:latin typeface="Times New Roman"/>
                <a:ea typeface="华文行楷"/>
              </a:rPr>
              <a:t>勤奋号客轮驶向丰收岛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571840" y="2349360"/>
            <a:ext cx="459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99"/>
                </a:solidFill>
                <a:latin typeface="Times New Roman"/>
                <a:ea typeface="华文行楷"/>
              </a:rPr>
              <a:t>——</a:t>
            </a:r>
            <a:r>
              <a:rPr b="0" lang="zh-CN" sz="5400" spc="-1" strike="noStrike">
                <a:solidFill>
                  <a:srgbClr val="ffff99"/>
                </a:solidFill>
                <a:latin typeface="Times New Roman"/>
                <a:ea typeface="华文行楷"/>
              </a:rPr>
              <a:t>为期末考试加油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06680" y="0"/>
            <a:ext cx="232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高二（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）班主题班会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809160" y="838080"/>
            <a:ext cx="1099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、对搞科学的人来说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勤奋就是成功之母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467440" y="3352680"/>
            <a:ext cx="469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竺可桢   </a:t>
            </a: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袁隆平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邓稼先   </a:t>
            </a: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茅以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486400" y="5791320"/>
            <a:ext cx="335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答案</a:t>
            </a: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（      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298640" y="5715000"/>
            <a:ext cx="55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ungsuh"/>
                <a:ea typeface="Gungsuh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762120" y="609480"/>
            <a:ext cx="7848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、社会主义制度的建立给我们       开辟了一条到达理想境界的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路，而理想境界的实现还要靠我们的辛勤劳动。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409480" y="3733920"/>
            <a:ext cx="4407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毛泽东  </a:t>
            </a: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邓小平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江泽民  </a:t>
            </a: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胡锦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486400" y="5791320"/>
            <a:ext cx="335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答案</a:t>
            </a: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（      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367760" y="57150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ungsuhChe"/>
                <a:ea typeface="GungsuhChe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14800" y="422280"/>
            <a:ext cx="48747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、人的天赋就像火花，它既可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熄灭，也可以燃烧起来，而迫使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它燃成熊熊大火的方法只有一个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就是劳动，再劳动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22560" y="3341520"/>
            <a:ext cx="4492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列宁    </a:t>
            </a: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普希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高尔基  </a:t>
            </a: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托尔斯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5791320"/>
            <a:ext cx="335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答案</a:t>
            </a: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（      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331400" y="5715000"/>
            <a:ext cx="50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ungsuh"/>
                <a:ea typeface="Gungsuh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rcRect l="0" t="3035" r="0" b="0"/>
          <a:stretch/>
        </p:blipFill>
        <p:spPr>
          <a:xfrm>
            <a:off x="152280" y="1981080"/>
            <a:ext cx="8763120" cy="48769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276720" y="2133720"/>
            <a:ext cx="2666880" cy="685800"/>
          </a:xfrm>
          <a:prstGeom prst="flowChartPredefinedProcess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华文行楷"/>
              </a:rPr>
              <a:t>中华勤学故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0"/>
            <a:ext cx="1905120" cy="1143000"/>
          </a:xfrm>
          <a:prstGeom prst="horizontalScroll">
            <a:avLst>
              <a:gd name="adj" fmla="val 12500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重温典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133720" y="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隶书"/>
              </a:rPr>
              <a:t>勤学是中华民族的传统美德，许多勤学的典故流传至今。以下典故你能不能说一说呢？只要把古人读书的情态描绘出来就有奖哦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2666880"/>
            <a:ext cx="761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4000" spc="-1" strike="noStrike">
                <a:solidFill>
                  <a:srgbClr val="990000"/>
                </a:solidFill>
                <a:latin typeface="Times New Roman"/>
                <a:ea typeface="隶书"/>
              </a:rPr>
              <a:t>苏秦，战国初期洛阳人。他自幼勤学苦读，当他读书读到昏昏欲睡时，就拿锥子扎自己的大腿，用疼痛来提醒自己继续读书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685800"/>
            <a:ext cx="5105160" cy="1523880"/>
          </a:xfrm>
          <a:prstGeom prst="horizontalScroll">
            <a:avLst>
              <a:gd name="adj" fmla="val 12500"/>
            </a:avLst>
          </a:pr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苏秦锥刺股苦读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85800" y="29718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孙敬，字文宝，汉代信都人。据说，他晚上念书时把头发用带子系到房梁上，一打瞌睡，头一低，揪得头皮疼，他就醒过来了，继续念书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05120" y="762120"/>
            <a:ext cx="5105160" cy="1523880"/>
          </a:xfrm>
          <a:prstGeom prst="horizontalScroll">
            <a:avLst>
              <a:gd name="adj" fmla="val 12500"/>
            </a:avLst>
          </a:pr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孙敬“头悬梁”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33520" y="312408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5f5f5f"/>
                </a:solidFill>
                <a:latin typeface="Times New Roman"/>
                <a:ea typeface="幼圆"/>
              </a:rPr>
              <a:t>西汉有个叫匡衡的人，他小时侯家境贫寒，连灯也没有。晚上为了读书，他凿通了邻居家的墙，借着偷来的一屡烛光读书，后来终于有所成就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685800"/>
            <a:ext cx="5105520" cy="1523880"/>
          </a:xfrm>
          <a:prstGeom prst="horizontalScroll">
            <a:avLst>
              <a:gd name="adj" fmla="val 12500"/>
            </a:avLst>
          </a:pr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匡衡凿壁偷光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762120" y="30481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990033"/>
                </a:solidFill>
                <a:latin typeface="华文中宋"/>
                <a:ea typeface="华文中宋"/>
              </a:rPr>
              <a:t>传说李白小时侯不用功。有一天，他在路上看见一位老奶奶在磨铁棒说要把它磨成针。李白深受感动，从此发奋苦读，成为千古诗</a:t>
            </a:r>
            <a:r>
              <a:rPr b="1" lang="zh-CN" sz="3600" spc="-1" strike="noStrike">
                <a:solidFill>
                  <a:srgbClr val="990033"/>
                </a:solidFill>
                <a:latin typeface="宋体"/>
              </a:rPr>
              <a:t>仙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609480"/>
            <a:ext cx="6172200" cy="1524240"/>
          </a:xfrm>
          <a:prstGeom prst="horizontalScroll">
            <a:avLst>
              <a:gd name="adj" fmla="val 12500"/>
            </a:avLst>
          </a:pr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李白“铁杵磨成针”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838080" y="2590920"/>
            <a:ext cx="777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4000" spc="-1" strike="noStrike">
                <a:solidFill>
                  <a:srgbClr val="5f5f5f"/>
                </a:solidFill>
                <a:latin typeface="Times New Roman"/>
                <a:ea typeface="隶书"/>
              </a:rPr>
              <a:t>晋代的车胤自幼家贫，没钱买灯油，而又想晚上读书，便在夏天的晚上抓一把萤火虫放进袋子里，利用萤火虫的微弱灯光来读书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05120" y="762120"/>
            <a:ext cx="5105160" cy="1371600"/>
          </a:xfrm>
          <a:prstGeom prst="horizontalScroll">
            <a:avLst>
              <a:gd name="adj" fmla="val 12500"/>
            </a:avLst>
          </a:pr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车胤囊萤照读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066680" y="297180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孙康，南朝人，家贫穷，夜晚没有照明的工具，他就跑到寒冷的屋外，利用雪地反射的光亮坚持夜读，后来成为名重一时的大学者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81080" y="838080"/>
            <a:ext cx="5105520" cy="1371600"/>
          </a:xfrm>
          <a:prstGeom prst="horizontalScroll">
            <a:avLst>
              <a:gd name="adj" fmla="val 12500"/>
            </a:avLst>
          </a:pr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孙康雪地夜读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126040" y="1981080"/>
            <a:ext cx="4017960" cy="4876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2438280" y="533520"/>
            <a:ext cx="58676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ffff99"/>
                  </a:solidFill>
                  <a:miter/>
                </a:ln>
                <a:solidFill>
                  <a:srgbClr val="0066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牛顿的忘我境界</a:t>
            </a:r>
            <a:endParaRPr b="0" lang="en-US" sz="2400" spc="1" strike="noStrike">
              <a:ln w="12600">
                <a:solidFill>
                  <a:srgbClr val="ffff99"/>
                </a:solidFill>
                <a:miter/>
              </a:ln>
              <a:solidFill>
                <a:srgbClr val="00660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0"/>
            <a:ext cx="1752480" cy="1752480"/>
          </a:xfrm>
          <a:prstGeom prst="irregularSeal1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40402"/>
                </a:solidFill>
                <a:latin typeface="Times New Roman"/>
                <a:ea typeface="方正舒体"/>
              </a:rPr>
              <a:t>听故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4038480"/>
            <a:ext cx="4800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3300"/>
                </a:solidFill>
                <a:latin typeface="Times New Roman"/>
                <a:ea typeface="宋体-方正超大字符集"/>
              </a:rPr>
              <a:t>表演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3300"/>
                </a:solidFill>
                <a:latin typeface="Times New Roman"/>
                <a:ea typeface="宋体-方正超大字符集"/>
              </a:rPr>
              <a:t>        </a:t>
            </a:r>
            <a:r>
              <a:rPr b="1" lang="zh-CN" sz="6000" spc="-1" strike="noStrike">
                <a:solidFill>
                  <a:srgbClr val="663300"/>
                </a:solidFill>
                <a:latin typeface="Times New Roman"/>
                <a:ea typeface="宋体-方正超大字符集"/>
              </a:rPr>
              <a:t>周敬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57200" y="533520"/>
            <a:ext cx="52578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宋体"/>
              </a:rPr>
              <a:t>谈谈你的期末考目标</a:t>
            </a:r>
            <a:endParaRPr b="0" lang="en-US" sz="2400" spc="1" strike="noStrike">
              <a:ln w="1908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-619560" y="533520"/>
            <a:ext cx="219132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339966"/>
                </a:solidFill>
                <a:latin typeface="Times New Roman"/>
                <a:ea typeface="华文行楷"/>
              </a:rPr>
              <a:t>老师来说几句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907360" y="457200"/>
            <a:ext cx="38689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把握生命里的每一分钟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和亲爱的朋友热情相拥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不经历风雨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怎么见彩虹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没有人能随随便便成功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279440" y="1087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152280"/>
            <a:ext cx="1447920" cy="1295640"/>
          </a:xfrm>
          <a:prstGeom prst="flowChartMagneticTape">
            <a:avLst/>
          </a:prstGeom>
          <a:solidFill>
            <a:srgbClr val="d2a5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欣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小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219320" y="990720"/>
            <a:ext cx="487656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cc99ff"/>
                  </a:solidFill>
                  <a:miter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老板的测试</a:t>
            </a:r>
            <a:endParaRPr b="0" lang="en-US" sz="2400" spc="1" strike="noStrike">
              <a:ln w="19080">
                <a:solidFill>
                  <a:srgbClr val="cc99ff"/>
                </a:solidFill>
                <a:miter/>
              </a:ln>
              <a:solidFill>
                <a:srgbClr val="80008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2" name=""/>
          <p:cNvSpPr/>
          <p:nvPr/>
        </p:nvSpPr>
        <p:spPr>
          <a:xfrm>
            <a:off x="593640" y="3909960"/>
            <a:ext cx="74836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66"/>
                </a:solidFill>
                <a:latin typeface="宋体"/>
              </a:rPr>
              <a:t>编剧</a:t>
            </a:r>
            <a:r>
              <a:rPr b="1" lang="zh-CN" sz="4400" spc="-1" strike="noStrike">
                <a:solidFill>
                  <a:srgbClr val="006666"/>
                </a:solidFill>
                <a:latin typeface="宋体"/>
              </a:rPr>
              <a:t>/</a:t>
            </a:r>
            <a:r>
              <a:rPr b="1" lang="zh-CN" sz="4400" spc="-1" strike="noStrike">
                <a:solidFill>
                  <a:srgbClr val="006666"/>
                </a:solidFill>
                <a:latin typeface="宋体"/>
              </a:rPr>
              <a:t>导演：周靖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66"/>
                </a:solidFill>
                <a:latin typeface="宋体"/>
              </a:rPr>
              <a:t>表演：罗钊辉  何剑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66"/>
                </a:solidFill>
                <a:latin typeface="宋体"/>
              </a:rPr>
              <a:t>      </a:t>
            </a:r>
            <a:r>
              <a:rPr b="1" lang="zh-CN" sz="4400" spc="-1" strike="noStrike">
                <a:solidFill>
                  <a:srgbClr val="006666"/>
                </a:solidFill>
                <a:latin typeface="宋体"/>
              </a:rPr>
              <a:t>黄羽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66"/>
                </a:solidFill>
                <a:latin typeface="宋体"/>
              </a:rPr>
              <a:t>旁白：周靖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228600"/>
            <a:ext cx="2133720" cy="1143000"/>
          </a:xfrm>
          <a:prstGeom prst="cloudCallout">
            <a:avLst>
              <a:gd name="adj1" fmla="val -73662"/>
              <a:gd name="adj2" fmla="val 94027"/>
            </a:avLst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猜一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2209680"/>
            <a:ext cx="8001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Times New Roman"/>
                <a:ea typeface="华文行楷"/>
              </a:rPr>
              <a:t>古今中外，许多名人说过很多关于“勤奋”的金玉良言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Times New Roman"/>
                <a:ea typeface="华文行楷"/>
              </a:rPr>
              <a:t>这些话语至今仍然熠熠发光，激励着一代又一代的后来人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Times New Roman"/>
                <a:ea typeface="华文行楷"/>
              </a:rPr>
              <a:t>你知道以下的名言出自谁人之口吗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5410080"/>
            <a:ext cx="7848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注意：要在主持人说了“开始抢答”之后才       能举手，抢先举手的作废</a:t>
            </a: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01520" y="892080"/>
            <a:ext cx="53895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、天才是百分之一的灵感加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百分之九十九的汗水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435760" y="2838600"/>
            <a:ext cx="4888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爱迪生   </a:t>
            </a: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爱因斯坦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牛顿     </a:t>
            </a: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诺贝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4120" y="5867280"/>
            <a:ext cx="335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答案</a:t>
            </a: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（      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160760" y="5764320"/>
            <a:ext cx="566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ungsuh"/>
                <a:ea typeface="Gungsuh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761560" y="968400"/>
            <a:ext cx="1099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、业精于勤，荒于嬉；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行成于思，毁于随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58760" y="3111480"/>
            <a:ext cx="4111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柳宗元  </a:t>
            </a: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苏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韩愈    </a:t>
            </a: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王安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5791320"/>
            <a:ext cx="335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答案</a:t>
            </a: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（      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98240" y="5740560"/>
            <a:ext cx="53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ungsuh"/>
                <a:ea typeface="Gungsuh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04920" y="1600200"/>
            <a:ext cx="1099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、黑发不知勤学早，白首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方悔读书迟。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638080" y="3645000"/>
            <a:ext cx="4407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王羲之  </a:t>
            </a: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颜真卿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陶渊明  </a:t>
            </a: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李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562720" y="5867280"/>
            <a:ext cx="335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答案</a:t>
            </a: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（      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402320" y="5791320"/>
            <a:ext cx="54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ungsuh"/>
                <a:ea typeface="Gungsuh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077200" y="728640"/>
            <a:ext cx="26175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、勤能补拙是良训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一分辛劳一分才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64320" y="2730600"/>
            <a:ext cx="415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苏步青  </a:t>
            </a: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华罗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陈景润  </a:t>
            </a: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陈建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029200" y="5715000"/>
            <a:ext cx="335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答案</a:t>
            </a: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（      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792480" y="5638680"/>
            <a:ext cx="621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Gungsuh"/>
                <a:ea typeface="Gungsuh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205520" y="990720"/>
            <a:ext cx="954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、天资的充分发挥和个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的勤学苦练是成正比例的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01760" y="2971800"/>
            <a:ext cx="4111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茅盾    </a:t>
            </a: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巴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老舍    </a:t>
            </a: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郭沫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029200" y="5334120"/>
            <a:ext cx="335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答案</a:t>
            </a: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（      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908040" y="518148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ungsuhChe"/>
                <a:ea typeface="GungsuhChe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22:53:50Z</dcterms:modified>
  <cp:revision>32</cp:revision>
  <dc:subject>主题班会课件(分28大类): http://shop62905894.taobao.com</dc:subject>
  <dc:title>主题班会课件(分28大类): http://shop62905894.taobao.com</dc:title>
</cp:coreProperties>
</file>