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D37-B2C6-44CA-86C9-D69E7C16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18B-5555-4C08-AE25-A450A5A0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8383-FEAD-4E18-B0E2-752D6092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684F-7A2E-4933-AEFA-D7B80586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9B8B2-8BF3-4B5F-A26F-EC3816D3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D3CA-8213-45B1-BB73-981094F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D8D5-DA33-4651-A8F7-AB4E258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78F9E-C7F2-4DBB-B595-0C72D5D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3A03-5114-42C7-B606-2151551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343A-A794-4829-BB19-59D8991A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503E7-A0E5-4EBD-8B85-29DCE654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084-A163-47B8-B12A-54C1AB52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DB8-A037-43B3-87BF-1F0F7E3D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535-D7BA-46D8-9B21-E41EC313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05B1-EE78-4A29-B073-9353A319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5C13-F0F5-4E4A-BB9F-822EC079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61B-AA09-48E5-A3B8-8213E40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F2D-F336-48A0-8233-693208E6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FAC4-9CC1-42F8-8834-E2841BC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583C-470C-4BF7-BDC7-B7D6A16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808-D6EF-43EE-A934-6E744E52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873-18BD-47FC-AA30-B113B78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DC3-7F83-45D7-9D45-C3686FB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51D7-FE3B-4E61-A921-4BE3515A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35B-C4DE-4CD4-A7EB-5D1A32F4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E147-C824-46BF-AA25-57FD4C61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F355-D156-47BB-9BC6-90EFB239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0724-A66A-4715-A7B6-80FB1DEA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4A72-66BF-4213-BF69-27F0A3C9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2C57-37ED-44B2-845B-1B1D3AD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74D7-5846-4C84-85DB-C13A61D2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C22-B148-4A38-896C-A60831B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8763-7614-4770-ACA2-41136262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2E56-2632-4199-8209-1634786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FCA1-02FB-438D-9AEE-1A472C7E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E140-1CAC-48CC-94BC-DD9A16C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6F4E-098F-4073-A5AF-69E7610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823C-AFD5-45F7-B9B6-C9FA0366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E006-038E-4C6D-BE72-2101B581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E90B-FDD6-46B4-828B-941F7A3F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1CE0-F867-4A94-B5BC-5983D70B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F662-C9FE-43B3-AB3A-66A0DB49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5C5-6031-4C05-B56E-D1A469C5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2230-B900-40CE-B83A-66F4313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EC54-9275-47AE-8D81-C6CDF0A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63E0-0C56-4C61-B698-51E47D5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5078-D97E-491C-9D9F-03767F3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C2B9-CE63-48D0-A6E2-55F3D32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06F5-0A6F-48B9-9810-0D7BB2D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A7A2-CA84-4387-AFC5-3A87D94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EB3A-4CEB-4F1C-9594-98E98476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4B5E-4574-49F3-AEEC-8DD0055C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7678-7658-4BAC-BB25-4745477B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68F-794D-4236-A664-3C188BA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7789-1282-4068-A836-96873EF7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946D-2BF8-4325-9043-D62A30C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E79D-65F9-429A-A9FD-01CCBD59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7B56-A494-4186-B531-811DA6AA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B8E7-5292-49CB-B1F2-743EC3C8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71F6-EE7B-4D5C-9408-C74B09BE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D88ED-3A5B-4EB4-8D64-BB1451A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DD66-F015-4EFB-BCE1-37B791C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465C-1F33-475A-A874-78B4D26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70DB-1FB9-4F5A-ABF6-FED3ACED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6B0-AD3A-45BD-B674-C0435436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C3EC-6613-41BA-9BC3-A4ED2D2A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4054-5C43-41D0-BAEA-EB6FA12A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771CC-E5A9-49AE-BA35-472F608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9A89-1490-4B5E-9E46-36B5645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B01A-007D-4BC2-8CF4-3199776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334B-8E91-4C2E-A25F-768A709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22917-D51A-4376-A8C1-D7EA32F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9532-DBAB-419D-ADF2-BF981BD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4AA2-1B70-465E-B157-650E69B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D4B1-7A1C-4A1F-8CC7-3EFABD9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2C0-8560-4FC9-9D69-F2E5036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5D6B5-FB05-46D8-8991-2E762A2E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8A9A7-BBAD-4459-A250-19D100B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5CEC-5251-456D-B23E-BC209539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C06C-5E86-44E2-826E-F4A5DB35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A6AC6-7214-40FF-8BC3-E0F2676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D994D-F117-4561-A355-058F878D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D420-ABC1-42AE-B13C-3276892A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4455-C13D-4AE3-8E36-25184FA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9C94-BE52-4FD1-88A2-4D48ABA4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E2AA8-46F6-4ECF-966C-04C1E44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9C4-B110-4AE4-8960-F381084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9638F-CC82-4563-BEC4-4EFC72C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15299-B7AB-416E-8F7D-E67B4F7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5C4D-03AC-4022-B07F-E253D4E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3E6D-115F-469A-9398-103B2C6A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234A-CF33-41C1-BC9B-24F151AB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D2E4-5191-4DFA-8BEA-139E9F22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7E59A-AB7C-4A90-A59A-73B16107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97683-1630-4456-9D0F-5FD01A2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EBA7-56BF-4CCC-AEB7-3D06B28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65D55-07AD-4D7C-9FFF-9BC3F3C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0A5-5662-46AC-95A6-41EC16E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BAB9-3A71-48FC-9A47-6D4337BD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5A67-06BE-4856-A3A2-EE26385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DB300-B201-4F95-9CC5-16D0D606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5C41-B6B9-4AFD-A85E-FA23A1D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88D25-494E-4F91-9766-23C2A90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3750B-B6B3-41A7-9E65-4CE8E52C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90E4-EE27-4AAB-B0AD-04CE5E2A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B582B-58EE-4885-B55C-4E9BDCB2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9BCD-2367-4F38-96D0-6C6F1181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9435-7F5A-4483-B0EC-BDF51165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4774-4399-4C0D-AF13-5D955D2CA7B2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539-698F-40A4-A846-1961BE78112E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137D-C6F9-4663-ABF3-498717364F49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65F6-2594-4FD0-A0B5-3CC39FF34529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6AE-9782-40B6-B5BD-4CA9B93242A0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F5E5-7D43-455F-BF1A-3AF02A443A59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2F0D-E05E-4D8D-859B-1F392E89F318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253-3A6B-469E-8894-74F7553DA8E8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02A-652B-4ABE-8EA3-8AAED578B825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843280" y="549360"/>
            <a:ext cx="5473800" cy="4219560"/>
          </a:xfrm>
          <a:prstGeom prst="rect">
            <a:avLst/>
          </a:prstGeom>
          <a:ln w="111240">
            <a:solidFill>
              <a:srgbClr val="969696"/>
            </a:solidFill>
            <a:miter/>
          </a:ln>
        </p:spPr>
      </p:pic>
      <p:pic>
        <p:nvPicPr>
          <p:cNvPr id="400" name="标题 1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663040" cy="1339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0199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实验中学  张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标题 1" descr=""/>
          <p:cNvPicPr/>
          <p:nvPr/>
        </p:nvPicPr>
        <p:blipFill>
          <a:blip r:embed="rId2"/>
          <a:stretch/>
        </p:blipFill>
        <p:spPr>
          <a:xfrm>
            <a:off x="249120" y="476280"/>
            <a:ext cx="8894880" cy="12128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 flipV="1" rot="10800000">
            <a:off x="250560" y="155664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张成绩下降的原因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42244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争加剧，各路“高手”云集一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然用功，但方法可能不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文体活动很少参加而导致体质下降，精力不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初中时成绩一直优秀，上了高中以后可能期望过高，自我要求太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的过度关注，过高期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1" descr=""/>
          <p:cNvPicPr/>
          <p:nvPr/>
        </p:nvPicPr>
        <p:blipFill>
          <a:blip r:embed="rId2"/>
          <a:stretch/>
        </p:blipFill>
        <p:spPr>
          <a:xfrm>
            <a:off x="249120" y="476280"/>
            <a:ext cx="8894880" cy="1212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 flipV="1" rot="10800000">
            <a:off x="250560" y="1483560"/>
            <a:ext cx="85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整对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9280" y="551664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运用“自我验证效应”，防止恶性循环，形成良性循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20098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适当降低自己的期望值，不能继续以初中的名次标准来要求自己，现在的同学毕竟都是初中的精英，聚到一起来，排起名次总会有先后之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改进自己的学习方法，不能照搬初中的一套。高中不但课程多，难度也加大了，初中的学习方法已不再完全适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调整自己的学习时间，劳逸结合，不打疲劳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取得家庭的配合，不给太大的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692000" y="2781000"/>
            <a:ext cx="44830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祝大家学习快乐！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843280" y="549360"/>
            <a:ext cx="5473800" cy="4219560"/>
          </a:xfrm>
          <a:prstGeom prst="rect">
            <a:avLst/>
          </a:prstGeom>
          <a:ln w="111240">
            <a:solidFill>
              <a:srgbClr val="969696"/>
            </a:solidFill>
            <a:miter/>
          </a:ln>
        </p:spPr>
      </p:pic>
      <p:sp>
        <p:nvSpPr>
          <p:cNvPr id="432" name=""/>
          <p:cNvSpPr txBox="1"/>
          <p:nvPr/>
        </p:nvSpPr>
        <p:spPr>
          <a:xfrm rot="5400000">
            <a:off x="-146160" y="2962440"/>
            <a:ext cx="30290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做学习的主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3562200" cy="5008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 flipV="1" rot="10800000">
            <a:off x="4137120" y="1528920"/>
            <a:ext cx="461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影响成败归因的因素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努力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任务的难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运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"/>
          <p:cNvGraphicFramePr/>
          <p:nvPr/>
        </p:nvGraphicFramePr>
        <p:xfrm>
          <a:off x="395280" y="1557360"/>
          <a:ext cx="8429760" cy="4473360"/>
        </p:xfrm>
        <a:graphic>
          <a:graphicData uri="http://schemas.openxmlformats.org/drawingml/2006/table">
            <a:tbl>
              <a:tblPr/>
              <a:tblGrid>
                <a:gridCol w="1362240"/>
                <a:gridCol w="1792080"/>
                <a:gridCol w="5275440"/>
              </a:tblGrid>
              <a:tr h="49212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成／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原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例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4"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成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努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考试难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运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4"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努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考试难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运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3849840" y="196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擅长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63320" y="256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复习得很充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34600" y="299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次考试太容易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76800" y="3573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次考得好，太运气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92400" y="40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不擅长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3320" y="4508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准备得不充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61200" y="4941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次考试太难了，没有人考得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34600" y="551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次我很不走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标题 1" descr="成败归因"/>
          <p:cNvPicPr/>
          <p:nvPr/>
        </p:nvPicPr>
        <p:blipFill>
          <a:blip r:embed="rId2"/>
          <a:stretch/>
        </p:blipFill>
        <p:spPr>
          <a:xfrm>
            <a:off x="249120" y="404640"/>
            <a:ext cx="8894880" cy="121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611280" y="1700280"/>
          <a:ext cx="8243640" cy="2448000"/>
        </p:xfrm>
        <a:graphic>
          <a:graphicData uri="http://schemas.openxmlformats.org/drawingml/2006/table">
            <a:tbl>
              <a:tblPr/>
              <a:tblGrid>
                <a:gridCol w="1441080"/>
                <a:gridCol w="1584360"/>
                <a:gridCol w="1655640"/>
                <a:gridCol w="1656000"/>
                <a:gridCol w="1906560"/>
              </a:tblGrid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主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客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不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3567960" y="1052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Arial"/>
                <a:ea typeface="黑体"/>
              </a:rPr>
              <a:t>成就归因三维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 flipV="1" rot="10800000">
            <a:off x="394920" y="479628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影响成败归因的几个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能力、努力程度、任务的难度、方法、运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标题 1" descr="成败归因"/>
          <p:cNvPicPr/>
          <p:nvPr/>
        </p:nvPicPr>
        <p:blipFill>
          <a:blip r:embed="rId2"/>
          <a:stretch/>
        </p:blipFill>
        <p:spPr>
          <a:xfrm>
            <a:off x="249120" y="404640"/>
            <a:ext cx="8894880" cy="121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395280" y="2781360"/>
          <a:ext cx="8532720" cy="2448000"/>
        </p:xfrm>
        <a:graphic>
          <a:graphicData uri="http://schemas.openxmlformats.org/drawingml/2006/table">
            <a:tbl>
              <a:tblPr/>
              <a:tblGrid>
                <a:gridCol w="1368360"/>
                <a:gridCol w="1946520"/>
                <a:gridCol w="1655640"/>
                <a:gridCol w="2230560"/>
                <a:gridCol w="1331640"/>
              </a:tblGrid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主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客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楷体_GB2312"/>
                        </a:rPr>
                        <a:t>持久努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楷体_GB2312"/>
                        </a:rPr>
                        <a:t>一时努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不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楷体_GB2312"/>
                        </a:rPr>
                        <a:t>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楷体_GB2312"/>
                        </a:rPr>
                        <a:t>任务的难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楷体_GB2312"/>
                        </a:rPr>
                        <a:t>运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1262880" y="162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Arial"/>
                <a:ea typeface="黑体"/>
              </a:rPr>
              <a:t>成就归因三维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1143000" y="3357720"/>
          <a:ext cx="6634080" cy="2286000"/>
        </p:xfrm>
        <a:graphic>
          <a:graphicData uri="http://schemas.openxmlformats.org/drawingml/2006/table">
            <a:tbl>
              <a:tblPr/>
              <a:tblGrid>
                <a:gridCol w="66340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自己的学习能力比较强。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自己比较刻苦努力。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这次考试的试题比较简单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这次考试运气比较好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矩形 3"/>
          <p:cNvSpPr/>
          <p:nvPr/>
        </p:nvSpPr>
        <p:spPr>
          <a:xfrm>
            <a:off x="785880" y="164304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写出不同归因对自己心理产生的影响以及对自己以后学习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1071720" y="3357720"/>
          <a:ext cx="6634080" cy="2357280"/>
        </p:xfrm>
        <a:graphic>
          <a:graphicData uri="http://schemas.openxmlformats.org/drawingml/2006/table">
            <a:tbl>
              <a:tblPr/>
              <a:tblGrid>
                <a:gridCol w="66340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自己学习能力比较低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自己学习不努力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这次考试的试题比较难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因为这次考试运气不好。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                  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矩形 3"/>
          <p:cNvSpPr/>
          <p:nvPr/>
        </p:nvSpPr>
        <p:spPr>
          <a:xfrm>
            <a:off x="785880" y="164304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写出不同归因对自己心理产生的影响以及对自己以后学习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714240" y="4214880"/>
          <a:ext cx="7572600" cy="159552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3080"/>
                <a:gridCol w="1515960"/>
                <a:gridCol w="151452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 flipV="1" rot="10800000">
            <a:off x="285840" y="2739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你认为自己的各科学习潜能如何，请在下表各个空白处给自己打分  ①表示潜能很低；②表示潜能较低；③表示潜能一般；④表示潜能较高；⑤表示潜能很高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标题 1" descr="成败归因"/>
          <p:cNvPicPr/>
          <p:nvPr/>
        </p:nvPicPr>
        <p:blipFill>
          <a:blip r:embed="rId2"/>
          <a:stretch/>
        </p:blipFill>
        <p:spPr>
          <a:xfrm>
            <a:off x="249120" y="404640"/>
            <a:ext cx="8894880" cy="121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395280" y="2781360"/>
          <a:ext cx="8532720" cy="2809800"/>
        </p:xfrm>
        <a:graphic>
          <a:graphicData uri="http://schemas.openxmlformats.org/drawingml/2006/table">
            <a:tbl>
              <a:tblPr/>
              <a:tblGrid>
                <a:gridCol w="1368360"/>
                <a:gridCol w="1946520"/>
                <a:gridCol w="1655640"/>
                <a:gridCol w="2230560"/>
                <a:gridCol w="1331640"/>
              </a:tblGrid>
              <a:tr h="57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主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客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宋体"/>
                        </a:rPr>
                        <a:t>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ad1f1f"/>
                          </a:solidFill>
                          <a:latin typeface="Franklin Gothic Book"/>
                          <a:ea typeface="楷体_GB2312"/>
                        </a:rPr>
                        <a:t>持久努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99ff"/>
                          </a:solidFill>
                          <a:latin typeface="Franklin Gothic Book"/>
                          <a:ea typeface="楷体_GB2312"/>
                        </a:rPr>
                        <a:t>努力不足方法不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99ff"/>
                          </a:solidFill>
                          <a:latin typeface="Franklin Gothic Book"/>
                          <a:ea typeface="楷体_GB2312"/>
                        </a:rPr>
                        <a:t>帮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e3b30"/>
                          </a:solidFill>
                          <a:latin typeface="Franklin Gothic Book"/>
                          <a:ea typeface="华文楷体"/>
                        </a:rPr>
                        <a:t>不可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ad1f1f"/>
                          </a:solidFill>
                          <a:latin typeface="Franklin Gothic Book"/>
                          <a:ea typeface="楷体_GB2312"/>
                        </a:rPr>
                        <a:t>学习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楷体_GB2312"/>
                        </a:rPr>
                        <a:t>任务的难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楷体_GB2312"/>
                        </a:rPr>
                        <a:t>运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1262880" y="162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Arial"/>
                <a:ea typeface="黑体"/>
              </a:rPr>
              <a:t>成就归因三维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sp>
        <p:nvSpPr>
          <p:cNvPr id="462" name="矩形 5"/>
          <p:cNvSpPr/>
          <p:nvPr/>
        </p:nvSpPr>
        <p:spPr>
          <a:xfrm>
            <a:off x="395280" y="1484280"/>
            <a:ext cx="8459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塞尔玛陪伴丈夫驻扎在一个沙漠陆军基地里。她丈夫奉命到沙漠里去演习。她一个人留在部队的小铁皮房子里，天气异常炎热，没有人可以谈天。只有墨西哥人和印第安人，但他们不能讲英语。她非常难过，就写信给父母，说要丢开一切回家去。她父亲的回信只有两行字，但就是这两行字却永远留在了她的心中，完全改变了她的生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两个人从牢中的铁窗望出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一个看到了泥土，一个却看到了星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个故事里你得到些什么启发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标题 1" descr=""/>
          <p:cNvPicPr/>
          <p:nvPr/>
        </p:nvPicPr>
        <p:blipFill>
          <a:blip r:embed="rId2"/>
          <a:stretch/>
        </p:blipFill>
        <p:spPr>
          <a:xfrm>
            <a:off x="285840" y="1822320"/>
            <a:ext cx="88646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4360" y="1484280"/>
            <a:ext cx="7127640" cy="2232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Medium"/>
                <a:ea typeface="黑体"/>
              </a:rPr>
              <a:t>小结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19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学业自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"/>
          <p:cNvSpPr/>
          <p:nvPr/>
        </p:nvSpPr>
        <p:spPr>
          <a:xfrm>
            <a:off x="2700360" y="220500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2060640"/>
            <a:ext cx="12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积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724360" y="1628640"/>
            <a:ext cx="2663640" cy="2016000"/>
            <a:chOff x="5724360" y="1628640"/>
            <a:chExt cx="2663640" cy="2016000"/>
          </a:xfrm>
        </p:grpSpPr>
        <p:sp>
          <p:nvSpPr>
            <p:cNvPr id="470" name=""/>
            <p:cNvSpPr/>
            <p:nvPr/>
          </p:nvSpPr>
          <p:spPr>
            <a:xfrm>
              <a:off x="5724360" y="1628640"/>
              <a:ext cx="2084400" cy="201600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56920" y="1928160"/>
              <a:ext cx="243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13b927"/>
                  </a:solidFill>
                  <a:latin typeface="Arial"/>
                  <a:ea typeface="楷体_GB2312"/>
                </a:rPr>
                <a:t>成败归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ca1002"/>
                  </a:solidFill>
                  <a:latin typeface="Arial"/>
                  <a:ea typeface="楷体_GB2312"/>
                </a:rPr>
                <a:t>积极心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00720" y="2276640"/>
            <a:ext cx="1079280" cy="288720"/>
          </a:xfrm>
          <a:prstGeom prst="leftRightArrow">
            <a:avLst>
              <a:gd name="adj1" fmla="val 50000"/>
              <a:gd name="adj2" fmla="val 7441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00720" y="2997360"/>
            <a:ext cx="1152360" cy="288720"/>
          </a:xfrm>
          <a:prstGeom prst="leftRightArrow">
            <a:avLst>
              <a:gd name="adj1" fmla="val 50000"/>
              <a:gd name="adj2" fmla="val 7945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708360" y="5516640"/>
            <a:ext cx="194328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56000" y="4149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999320" y="4183200"/>
            <a:ext cx="1643760" cy="58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验证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01080" y="1557360"/>
            <a:ext cx="792000" cy="4896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88880" y="2492280"/>
            <a:ext cx="11552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自己学习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692000" y="2781000"/>
            <a:ext cx="44830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祝大家学习快乐！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714240" y="4214880"/>
          <a:ext cx="7572600" cy="159552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3080"/>
                <a:gridCol w="1515960"/>
                <a:gridCol w="151452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Rectangle 1"/>
          <p:cNvSpPr/>
          <p:nvPr/>
        </p:nvSpPr>
        <p:spPr>
          <a:xfrm flipV="1" rot="10800000">
            <a:off x="285840" y="2739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你认为自己的各科学习兴趣如何，请在下表各个空白处给自己打分  ①表示兴趣很低；②表示兴趣较低；③表示兴趣一般；④表示兴趣较高；⑤表示兴趣很高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714240" y="4214880"/>
          <a:ext cx="7572600" cy="159552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3080"/>
                <a:gridCol w="1515960"/>
                <a:gridCol w="151452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Rectangle 1"/>
          <p:cNvSpPr/>
          <p:nvPr/>
        </p:nvSpPr>
        <p:spPr>
          <a:xfrm flipV="1" rot="10800000">
            <a:off x="285840" y="2739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你认为自己的各科学习潜能如何，请在下表各个空白处给自己打分  ①表示很不努力；②表示不太努力；③表示一般；④表示比较努力；⑤表示非常努力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标题 1" descr=""/>
          <p:cNvPicPr/>
          <p:nvPr/>
        </p:nvPicPr>
        <p:blipFill>
          <a:blip r:embed="rId2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"/>
          <p:cNvGraphicFramePr/>
          <p:nvPr/>
        </p:nvGraphicFramePr>
        <p:xfrm>
          <a:off x="714240" y="4214880"/>
          <a:ext cx="7572600" cy="159552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3080"/>
                <a:gridCol w="1515960"/>
                <a:gridCol w="151452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语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物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化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1"/>
          <p:cNvSpPr/>
          <p:nvPr/>
        </p:nvSpPr>
        <p:spPr>
          <a:xfrm flipV="1" rot="10800000">
            <a:off x="285840" y="27399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和全班同学各科学习成绩相比，你的成绩处于什么样的水平：①表示很差；②表示比较差；③表示中等水平；④表示比较好；⑤表示很好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 flipV="1" rot="10800000">
            <a:off x="622080" y="259560"/>
            <a:ext cx="85215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习中的“自我验证效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a1002"/>
                </a:solidFill>
                <a:latin typeface="楷体_GB2312"/>
                <a:ea typeface="楷体_GB2312"/>
              </a:rPr>
              <a:t>良性循环</a:t>
            </a:r>
            <a:r>
              <a:rPr b="1" lang="en-US" sz="2800" spc="-1" strike="noStrike">
                <a:solidFill>
                  <a:srgbClr val="ca1002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a1002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33600" y="2924280"/>
            <a:ext cx="246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为自己在某科目上具有一定的潜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学习的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更加努力、更加勤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摸索好的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成绩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加相信自己的能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 flipV="1" rot="10800000">
            <a:off x="323640" y="474840"/>
            <a:ext cx="8523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习中的“自我验证效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a1002"/>
                </a:solidFill>
                <a:latin typeface="楷体_GB2312"/>
                <a:ea typeface="楷体_GB2312"/>
              </a:rPr>
              <a:t>恶性循环</a:t>
            </a:r>
            <a:r>
              <a:rPr b="1" lang="en-US" sz="2800" spc="-1" strike="noStrike">
                <a:solidFill>
                  <a:srgbClr val="ca100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14600" y="2637000"/>
            <a:ext cx="246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己认为没有潜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去信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趣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努力程度也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绩更加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证和强化自己原先对学习能力的认识和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 flipV="1" rot="10800000">
            <a:off x="-1440" y="3541680"/>
            <a:ext cx="91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小张在小学和初中的时候，虽然学习不是十分紧张，但在班级中一直名列前茅，从来没有跌到中等水平。但是，自从上了高中以后，越来越感到学习紧张，他甚至坚决地停止了自己的业余兴趣和爱好，几乎把自己所有可以利用的时间和精力都用在了学习上。但是，一段时间以来，他仍然感到作业并不轻松，上课表现似乎也没有其他同学好，小测验的成绩也落入了中等水平，甚至有一门课的成绩跌到了班级末等水平。小张不明白，自己付出了许多，为什么不能达到自己的期望。他感到压力很大，对自己的学习能力开始产生怀疑，对自己辛勤努力得不到应有的回报感到非常沮丧，学习的兴趣和动力也开始下降。他不知道下一步应该怎么办。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家来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 flipV="1" rot="10800000">
            <a:off x="324000" y="3006000"/>
            <a:ext cx="85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根据自己的思考和经验，帮助小张分析一下，进入高中以后，他学习很努力，为什么成绩反而会落后了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的原因有哪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一步他该采取什么措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3200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家来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2:59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3:09:29Z</dcterms:modified>
  <cp:revision>42</cp:revision>
  <dc:subject>主题班会课件(分28大类): http://shop62905894.taobao.com</dc:subject>
  <dc:title>主题班会课件(分28大类): http://shop62905894.taobao.com</dc:title>
</cp:coreProperties>
</file>